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5FA-F909-4121-8CAC-65CDF5F3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1129-7E49-403D-AE22-4D25DC83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271-C038-4259-B796-5FA1DA82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290-0E04-417D-9AE4-B1857342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5F9-22FF-40DD-8E1F-3C5D98AE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FA7-F984-4D02-8681-9EBB3DFC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509-7143-451D-9B66-2B9ADB79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EAC-2256-4BEF-B573-59A89F65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F2E-C71D-4F62-9B2F-20B1CCF2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902-BA02-4CBB-8DD5-A64F5BD0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B08-A18E-42C6-A3D1-F6793E9E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AF5-6D5B-4EDA-ACBA-09619CE6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E2D5-80CC-4EC3-BAAD-849E7C209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arity@afghan.swa.army.mil" TargetMode="External"/><Relationship Id="rId2" Type="http://schemas.openxmlformats.org/officeDocument/2006/relationships/hyperlink" Target="file:///../default.aspx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09480" y="228600"/>
            <a:ext cx="777240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Volunteer Community Relations (VCR) is an all-volunteer program made possible by the generous donations of new and gently used clothing, shoes, toys, blankets, and school supplies from friends &amp; family back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anks for your follow throug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Book Antiqua"/>
                <a:hlinkClick r:id="rId1"/>
              </a:rPr>
              <a:t>charity@afghan.swa.army.mi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314440" y="3809880"/>
            <a:ext cx="4496040" cy="157212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VCR Program (Pool Ho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STC-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PO, AE 093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86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s from multiple VCR members &amp; 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neteam.centcom.mil/default.aspx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5:52:59Z</dcterms:created>
  <dc:creator>samuel.e.timmons</dc:creator>
  <dc:description/>
  <dc:language>en-US</dc:language>
  <cp:lastModifiedBy>samuel.e.timmons</cp:lastModifiedBy>
  <dcterms:modified xsi:type="dcterms:W3CDTF">2008-04-25T15:59:47Z</dcterms:modified>
  <cp:revision>2</cp:revision>
  <dc:subject/>
  <dc:title>VCR Contact / Donation 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Picture</vt:lpwstr>
  </property>
</Properties>
</file>