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3F2-B675-446B-8A0D-65E58D3D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E05-8CA7-4F90-88EE-9DF41DB6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ACD-75ED-48B4-9FC3-81188877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7FB-91AC-4E67-AC37-3E336B56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677-8FB7-4B26-8D4F-5249B474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B38-DC00-4635-9A10-92ACAC83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3D0-6121-4744-ABE2-2154B169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377-3AEF-400D-B915-61B4901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37D-9804-422C-8D51-6C99DDCC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030-07B2-4762-B2C2-34E28BB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DB8-6183-43DE-AD98-DA4205A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EEA-FD2A-45A0-BA1E-0121DD63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62B0-C022-4E88-8F9E-355EAC5375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6:55:39Z</dcterms:created>
  <dc:creator>Rafael NRS</dc:creator>
  <dc:description/>
  <dc:language>en-US</dc:language>
  <cp:lastModifiedBy>Rafael NRS</cp:lastModifiedBy>
  <dcterms:modified xsi:type="dcterms:W3CDTF">2007-08-09T16:56:17Z</dcterms:modified>
  <cp:revision>1</cp:revision>
  <dc:subject/>
  <dc:title>Slide 1</dc:title>
</cp:coreProperties>
</file>