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1A7-16E0-40A6-A7A4-F2BD91CC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480-80E5-459A-A43D-098F18A5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FF4-A657-43C9-B54C-0553DFC4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3DE-C027-479E-9F2F-4BF9AABA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455-C812-4AAA-B75A-46A8EAF5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886-4C31-4B38-8F44-C00CF83A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5E6-5A0E-4016-92FC-DD56DF3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323-D22D-4805-961F-685006FB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2FA-B735-430C-AEEB-6373A27F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3B1-6566-4A63-A709-48C45707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A5E-DDF1-4B8C-A007-1DCBD93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087-6EDC-4A8A-8E3A-421C53B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287F-5CB3-4F11-8298-DAE68DB3D2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am.abuse.net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h.org/home/frame_chainletters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Sabes cómo obtuve tu dirección electrón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62520" y="136440"/>
            <a:ext cx="5181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Si eres administrador de correos: por favor visita esta pagina para ver como combatir el SP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spam.abuse.net/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i vas a compartir este mensaje con varias personas, recuerda mandarlo co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C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(copia oculta) y borra la dirección de la persona que te lo mandó a ti que de no hacerlo queda grabada en el separador   de re-enví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6640" y="3549600"/>
            <a:ext cx="319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L MEJOR MODO DE SAL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!cid_43420923-920D-48ED-B661-3F3FEEB26349"/>
          <p:cNvPicPr/>
          <p:nvPr/>
        </p:nvPicPr>
        <p:blipFill>
          <a:blip r:embed="rId2"/>
          <a:srcRect l="0" t="0" r="0" b="6292"/>
          <a:stretch/>
        </p:blipFill>
        <p:spPr>
          <a:xfrm>
            <a:off x="152280" y="15228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685800"/>
            <a:ext cx="83059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hay ninguna niña muriéndose de cáncer llamada Amy Bruce y, si la  hubiera mucho menos la Fundación "Pide Un Deseo" (Make-a-Wish)  va a donar nada a nad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e tipo de mails es fácilmente corroborable entrando al website de la fundación y buscando el convenio: si fuese cierto, créanme que estaría en  el site con todo y la foto de Amy (en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wish.org/home/frame_chainletter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onde se habla de este mail específicamen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6858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no hace milagros a los cyber adictos ¿crees que Jesús consederá tus deseos sólo por presionar en “forward” “incluyendo en la lista a quien te envió este correo”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i te fijas, con este mecanismo el iniciador de la cadena tiene un “boomerang” que se le devuelve siempre con nuevas casillas inc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e visto lindos mensajes, increíbles promesas de milagros que ocurrirán al finalizar el día, con la sola condición de “reenviar a 10 amig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sabe mejor que nosotros mismos lo que será bueno y necesario para nuestras vid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609480" y="58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Otros motivos SPAM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:</a:t>
            </a: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- Ayudar a un niño enferm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2- Que Ericsson/Nokia/Motorola esta regalando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3- Nuevo virus: no lo abra!!!!! (se llaman falsas alarmas ó Hoaxes)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4- Bill Gates va a regalar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0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un viaje a Disney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5- Del tipo que amaneció en la tina sin un riñ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6- Gasolineras que explotan por los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7- Agujas infectadas de HIV+ en los cin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8- Sulfato de sodio en tu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hampú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9- Asalto en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parking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os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- Esto te traerá más suerte o te concederá un deseo cuanto más rápido y a más personas se lo  re-enví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1- Envíaselo a muchas personas y también a quien te lo envió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strarle lo mucho que le qui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¿Te puedo pedir un fav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yúdame a cuidarte y cuídame 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quiero que nos llegue ni a ti ni a mí correspondencia no solicitada de gente desco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 gustan los chistes, meditar con un buen mensaje, aprender con temas intere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no quiero que mi dirección electrónica esté en bases de datos de spa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da vez que REENVÍES un e-mail a más de 1 destinatario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usa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"con copia oculta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 ”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hace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FIGUR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la lista de destinatarios en el mensaje.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OR FAVOR, POR FAVOR usen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7 Grupo"/>
          <p:cNvGrpSpPr/>
          <p:nvPr/>
        </p:nvGrpSpPr>
        <p:grpSpPr>
          <a:xfrm>
            <a:off x="533520" y="3505320"/>
            <a:ext cx="3733560" cy="3057120"/>
            <a:chOff x="533520" y="3505320"/>
            <a:chExt cx="3733560" cy="3057120"/>
          </a:xfrm>
        </p:grpSpPr>
        <p:pic>
          <p:nvPicPr>
            <p:cNvPr id="47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48" name="4 CuadroTexto"/>
            <p:cNvSpPr/>
            <p:nvPr/>
          </p:nvSpPr>
          <p:spPr>
            <a:xfrm>
              <a:off x="533520" y="6285960"/>
              <a:ext cx="37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En Hotmail haz clic aquí antes de reenv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8 Grupo"/>
          <p:cNvGrpSpPr/>
          <p:nvPr/>
        </p:nvGrpSpPr>
        <p:grpSpPr>
          <a:xfrm>
            <a:off x="4495680" y="3505320"/>
            <a:ext cx="4343400" cy="3072960"/>
            <a:chOff x="4495680" y="3505320"/>
            <a:chExt cx="4343400" cy="3072960"/>
          </a:xfrm>
        </p:grpSpPr>
        <p:pic>
          <p:nvPicPr>
            <p:cNvPr id="50" name="5 Imagen" descr="Hotmail01.jpg"/>
            <p:cNvPicPr/>
            <p:nvPr/>
          </p:nvPicPr>
          <p:blipFill>
            <a:blip r:embed="rId2"/>
            <a:stretch/>
          </p:blipFill>
          <p:spPr>
            <a:xfrm>
              <a:off x="506700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1" name="6 CuadroTexto"/>
            <p:cNvSpPr/>
            <p:nvPr/>
          </p:nvSpPr>
          <p:spPr>
            <a:xfrm>
              <a:off x="4495680" y="6301800"/>
              <a:ext cx="434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2. Escribe las direcciones en “CCO…”, NO en “Para…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Outlook se ve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7 Grupo"/>
          <p:cNvGrpSpPr/>
          <p:nvPr/>
        </p:nvGrpSpPr>
        <p:grpSpPr>
          <a:xfrm>
            <a:off x="533520" y="2133720"/>
            <a:ext cx="3733560" cy="3421080"/>
            <a:chOff x="533520" y="2133720"/>
            <a:chExt cx="3733560" cy="3421080"/>
          </a:xfrm>
        </p:grpSpPr>
        <p:pic>
          <p:nvPicPr>
            <p:cNvPr id="55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6" name="4 CuadroTexto"/>
            <p:cNvSpPr/>
            <p:nvPr/>
          </p:nvSpPr>
          <p:spPr>
            <a:xfrm>
              <a:off x="533520" y="4913280"/>
              <a:ext cx="373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Si presionas en “Para”, “CC” o “CCO”, puedes seleccionar a tus destinatarios desde la libreta de direcciones, pero PONLOS EN EL C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Borra las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ando hagas u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orward (REENVIO)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un mensaje, t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 1 segundo y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BORRA las direcciones de e-mail del mensaje anterio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UY FÁCIL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Qué es SPAM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or definición son  mensaj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LICITADOS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pam son los mensajes publicitarios y cosas del estilo "hágase millonario mientras duerme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Cómo saben tu dirección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 más común es que recolecten las direcciones desde mensajes que  se envían masivamente entre amigos, como los chistes, cadenas de oración, milagros si reenvías a “n” conocidos, temas profundos en power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lguien recolecta esas casillas y después para colmo se venden/intercambian estas listas de e-mail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adenas son instrumentos de recolección que utilizan los webmasters de sit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nográficos, compañías que venden cualquier cosa, casinos en línea, agencias de esquemas de "dinero fácil", empresas que negocian vendiendo listas de correo y otras molestas  empresas que utilizan el spam para v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3080" y="-76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Qué son esos e-mails de "salve a una pobre niña" con cáncer?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dos, TODOS esos e-mails que piden que hagas un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*forwar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REENVIO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SON MENTIRA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Borra estos mails. OJO algunos traen virus o porquerías por el estilo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INGUNA EMPRES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como MICROSOFT, por ejempl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NCA NUNCA dona dinero por re-enviar este tipo de mensaj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2666880"/>
            <a:ext cx="5105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os vir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mandes ni abras archivo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ex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        ni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doc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!!!,   a menos que tu sepas que viene  de alguien confiable. Ahí es          el típico lugar donde van los vi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n una "campaña" de e-mails en un     día llegan a millones y los anti-virus apenas van a detectarlo  en unos días      o una semana o má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30040"/>
            <a:ext cx="819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as cuentas "REMOVE" / "QUITAR"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¡¡¡ES MENTIRA TAMBIEN!!! Es decir, cuando mandan un spam  (correo no solicitado) y te piden que si quieres ser eli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sus listas, contestes, es sólo para constatar cuales casillas tienen un usuario utilizándola act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 responder automáticamente les estas diciendo que tu dirección es válida y no sólo te siguen mandando mails, sino que  venden tu dirección masivamente o otros spam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JAMAS respondas si no conoces al emisor de una e-Mail, JAMAS!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olfo Hübner</dc:creator>
  <dc:description/>
  <dc:language>en-US</dc:language>
  <cp:lastModifiedBy>Adolfo Hübner</cp:lastModifiedBy>
  <dcterms:modified xsi:type="dcterms:W3CDTF">2007-07-04T03:48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