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F8F-A089-4E50-BED2-01AC6705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9892-760D-41A6-B525-1746D310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6E8-8B8C-4E74-A7E9-E6223FC8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DD1-D776-4688-BE1C-82A8A4C4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9A645-3C8A-41BD-A234-2C8D6C5A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3FEED-0221-4721-ADFC-BBCE7783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16F4F-8EC9-406A-9FEE-C48BB88E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7BA7E-2E2C-46DB-9628-3C2A2DE6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6F517-8BFE-4FE4-9EB1-EBF001A2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F1909-5772-40AF-A4E2-407E9AFC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F7768-4153-4245-9D66-F51B9855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CFD8-43A4-44B7-A1CE-43585B92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EC339-BF33-45A6-8907-7B7F0CC0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E6B2F-C46B-4F66-8DE9-3192E0CB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3F95B-026E-4794-9BF1-36AE067C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9C0C6-38E7-488C-9E4E-88F28B23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876B3-F9C1-4FB9-926F-7D59F8EB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C2FD7-11D3-4401-A622-D54E5512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E4AAE-8A98-45B2-A2C1-3858E52C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9AA0C-1211-4817-A0A0-B8F38022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06F17-B088-4D67-AE8A-0015DE8F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3FB25-AB1D-4566-8397-ACE2864A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87A-E654-4071-B1DB-EACF2389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9504C-332C-41CB-BE6F-0650C6B6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85E82-DD7E-40D7-A021-79D8C9B3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31179-F990-4934-9593-C1B2E852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24482-670B-4A6A-B5CC-F7617868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1AC12-57AF-458E-BD7C-25E1E8A9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AD5A9-1E42-45BB-ABED-AA953D8A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950B5-F702-4B5F-954A-F3E96C33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85A2-6932-4216-BB49-CC759346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B71-8599-45EE-8CC2-A862B52F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DDC-A2DC-4A8C-985E-8E0AE9A0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A6C-4AFC-44AE-BD33-13AB8ED2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540-6092-4C6C-94BF-B5A978DF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8F0-ABB8-4009-95B8-FFB65CD3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4D19-B27C-4091-88AA-B00891B14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77AE-3FDD-4F6B-B084-CBDDEA93151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915C-A989-4F49-B46E-806DBAEF30B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157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saband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553440" cy="3834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82920" y="522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anto daño me has h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08720" cy="3754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51280" y="57801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lim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639880" y="907920"/>
            <a:ext cx="4019760" cy="4896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59280" y="56358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lebra ponsoñ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761080" cy="40626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Rata de dos pat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527688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deshech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547640" y="1676520"/>
            <a:ext cx="6191280" cy="36241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16360" y="52768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332000" y="1590840"/>
            <a:ext cx="6408720" cy="3709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32000" y="5589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de dos p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92360" y="1433520"/>
            <a:ext cx="5904000" cy="4227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5734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estoy hablando a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4214520" cy="4753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360" y="5661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porque un bicho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88000" cy="4075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6000" y="5157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un siendo el mas mal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03280" y="1558800"/>
            <a:ext cx="6408720" cy="3603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istoria de una ca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60720" y="5661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omparado cont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256360" cy="4050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5157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se queda muy chi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4920" y="1557360"/>
            <a:ext cx="6192720" cy="3637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71640" y="527688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sanguij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47640" y="1617840"/>
            <a:ext cx="5977080" cy="3682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16360" y="52038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cucara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360" y="1471680"/>
            <a:ext cx="6335640" cy="3757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52038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que infectas donde p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360" y="1724040"/>
            <a:ext cx="6264360" cy="3505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54198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que hieres y que m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616720" cy="3965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7080" y="56358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lim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122560" y="1484280"/>
            <a:ext cx="4681440" cy="41702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200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lebra ponsoñ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979640" y="1490760"/>
            <a:ext cx="5329080" cy="42116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55641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desech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60360" y="1685880"/>
            <a:ext cx="6624720" cy="39038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57801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835280" y="1515960"/>
            <a:ext cx="5689440" cy="4289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Rata de dos pat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Canta: Paquita la del bar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59280" y="55641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de dos p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619280" y="1533600"/>
            <a:ext cx="6119640" cy="3983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16360" y="527688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estoy hablando a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332000" y="1436760"/>
            <a:ext cx="6769080" cy="3863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54198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porque un bicho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476360" y="1270080"/>
            <a:ext cx="6264360" cy="41274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5516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un siendo el mas mal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0200" y="1557360"/>
            <a:ext cx="6337440" cy="40003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56358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omparado cont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332000" y="1220760"/>
            <a:ext cx="6769080" cy="44258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71640" y="5851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se queda muy chi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460836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1640" y="55641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e estas oyendo inu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690560" y="1557360"/>
            <a:ext cx="5689800" cy="3971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32000" y="513252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hiena del inf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332000" y="1387440"/>
            <a:ext cx="6481800" cy="3697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52038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anto 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842160" cy="4005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39640" y="1141560"/>
            <a:ext cx="7993080" cy="4808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51325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Inmu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6560" y="1341360"/>
            <a:ext cx="5329440" cy="3819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47721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nimal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63640" y="1393920"/>
            <a:ext cx="5832720" cy="3403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2000" y="5157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scoria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264360" cy="3689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038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defecio mal h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616720" cy="3940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7840" y="530064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Infra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360" y="1746360"/>
            <a:ext cx="6191280" cy="355428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530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xpectro del inf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480360" cy="380376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22:44:20Z</dcterms:created>
  <dc:creator/>
  <dc:description/>
  <dc:language>en-US</dc:language>
  <cp:lastModifiedBy>Arrecho</cp:lastModifiedBy>
  <dcterms:modified xsi:type="dcterms:W3CDTF">2005-11-01T00:42:53Z</dcterms:modified>
  <cp:revision>10</cp:revision>
  <dc:subject/>
  <dc:title>Slide 1</dc:title>
</cp:coreProperties>
</file>