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B7D-2BC8-4BBD-AC8F-FDFD0DFE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582-8370-4E30-A372-FD5E8484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10F-40BD-4995-BB11-A5CB632B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EE4-CB66-479D-9483-98FA1195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CA368-0430-4230-9CCB-9FAB2230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668A7-1B6A-4139-BDEB-EC4184B5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7141C-2859-47F2-9852-2476EC78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416F3-08D8-43AE-B527-912AB2D9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8E9B4-54AA-4F8A-AA51-14364E49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8D16B-68B7-4F72-994C-F8B6192F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EDD04-2631-4E57-B1C6-D984BFAB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020-DB41-43C1-B38B-9E9477CA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E2492-5688-43ED-B94A-8C4029C7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2EAC3-1EB5-4992-B1F3-E15D0B23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8A3D6-520C-47BF-80C1-AD898B81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F355A-B923-443E-9CD3-AFC6E618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75DBF-0963-4674-A5DC-21DFFE1E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4A0C-D9E2-421D-B96A-14D8846D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7CCA5-5FBF-4BFF-BD39-5FC3D7A5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C7ABD-1B47-4E0B-A57D-91253957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7232-0382-4252-BFC1-69CC3D07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34019-B3C1-4562-805E-37CC87BB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CB3-C6DA-4E3F-BC61-9418B90C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AF970-CA55-4147-98A6-A5541DFD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1882F-7D19-44AA-918B-272C92CA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5827-C627-4A9A-94E3-B4188A4E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A7448-0289-420E-B3C9-5FB315F1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AF44-E27A-4A11-9948-67DFAB18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0FBEF-77F9-40E0-8154-0F6FC8A0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5F5E8-1F4E-4969-9DEC-1B987003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7F1F14-18B8-4B1A-9971-6D070B0D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74EE00-7B91-4A26-93AA-097CE78E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BBDDA-5060-407F-8206-B6079E7A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27B-51EC-4CCD-B9CD-9FA88A95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05534-DA57-46FD-93B2-B35820C5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40EB68-788D-4D22-87C2-6163A558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246FB4-2E31-45FA-9102-DB231037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2E42E-B8DD-45C0-A46B-815C6790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A42D62-F1D4-4208-BA7E-9852570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3C82B7-F8AC-45CF-BA8C-61456D97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0BC9A6-387D-434C-A381-54AC917D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4AF4A-DA71-4292-810A-DA2AA8DA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393670-6A1B-47AF-B451-E9EF290B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2BE39-F110-4A01-994F-7CB2F437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D77-9693-4D9C-B4DD-F653B752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3233F-4285-424F-810C-5DE27C32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98463-21E2-4739-B222-DBB7E077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BB1CF-8708-4ACC-B72C-7F5DD8B7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8586A-1B9B-42CC-A640-3B7533BA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FBB20-238E-404D-BCBF-46098282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03E01-0603-4053-AC44-B97359D4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4FFE0-8BE3-45C9-9D83-64C897E9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AD71F-C202-40FE-BB52-8AAB668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83E3F-4344-435E-A500-220261B4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BD021-225F-49CA-9D3A-47A33B51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080-EECA-4039-BFA9-9F4AABDB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933E5-7B55-423F-B869-FDE07CF5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2F1C2-46B1-4AD6-B947-D62D020E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0E56F-524D-4FA7-AA1D-5F2704BE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1E24D-D143-42DF-9B3E-8461F5FF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EE637-EAF5-46DE-B546-0C8A8AD8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87471-858D-4BDF-8AB1-2172B0A9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7D6D1-C9FE-4F59-8B4B-4FC1F780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3B9784-D1E8-4DB3-B3F4-4D23865F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DB107-1A4D-4C62-83B2-C9305532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B1740-5AA5-4A53-A453-EA0ED0CE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2D3-201E-4EC9-92A8-03658B24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C5D35-D8B7-49C6-9802-A5762BC1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66E3D-950A-4790-B6FB-215CA49E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C6028-9A25-45AD-8101-0C642FFE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3EB-D2B9-445D-883E-8483516F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124-0EE8-43DB-A242-03CC1F3D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7007-5088-44C7-A8E0-D19B8C6430EA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10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20E2-4745-4B33-9E74-479118F25A9F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1B82-F6D8-4F88-ABBD-EB01B903C7A3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ADB1-D4AA-4230-B4D5-0AA122D8990C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96CB-3940-4020-BD7D-4627CB05BC15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52C6-4537-432B-A81F-2771DA4BC592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8 Rectángulo" descr=""/>
          <p:cNvPicPr/>
          <p:nvPr/>
        </p:nvPicPr>
        <p:blipFill>
          <a:blip r:embed="rId1"/>
          <a:stretch/>
        </p:blipFill>
        <p:spPr>
          <a:xfrm>
            <a:off x="-201600" y="-6480"/>
            <a:ext cx="9547200" cy="74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2:19:56Z</dcterms:created>
  <dc:creator>WinuE</dc:creator>
  <dc:description/>
  <dc:language>en-US</dc:language>
  <cp:lastModifiedBy>WinuE</cp:lastModifiedBy>
  <dcterms:modified xsi:type="dcterms:W3CDTF">2008-05-23T03:47:22Z</dcterms:modified>
  <cp:revision>3</cp:revision>
  <dc:subject/>
  <dc:title>Diapositiva 1</dc:title>
</cp:coreProperties>
</file>