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FAFF-8504-4915-BAC7-00EAB0228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8D47-1BE5-4AAA-B43E-F6D7BFBF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A8D0-72F5-4ECE-9F3A-48D3F3671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9633-5F3D-44F2-986E-F4D49388C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A947-E7D8-434C-9AA0-C4A5A471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A7DE-BA62-4487-AD01-1932523F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D46B-007B-4199-B232-CA8C048A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BC51-B05F-497E-AC3C-391765A5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25F2-3FAA-47A1-8BA5-06C3A7FB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1517-05C3-46FF-8B30-0C5EB066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D10C-C8B5-4CC9-8BEC-E0E4CD09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339D-7A9E-4C95-A93A-DB62879D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4656-8D16-4E06-990A-7C8338ABA95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Empieza por hacer lo necesario, luego lo que es posible... y de pronto estarás haciendo lo imposible"</a:t>
            </a:r>
            <a:br>
              <a:rPr sz="1400"/>
            </a:b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Una vez que envíes el mensaje aprieta F6 y veras lo que te aparece....insólito pero cierto.....da miedo pero es cierto....suerte. </a:t>
            </a:r>
            <a:br>
              <a:rPr sz="1400"/>
            </a:b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br>
              <a:rPr sz="4000"/>
            </a:b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anda esto a 15 personas en los próximos 143 minutos, luego presiona F6 y el nombre de quien t ama aparecerá en letra grande, da tanto miedo por qué es real pero si rompes esta cadena serás castigado con problemas en sus próximas relaciones de por vida copia y pégalo .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59280" y="1700280"/>
            <a:ext cx="2631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02:23:35Z</dcterms:created>
  <dc:creator>Said</dc:creator>
  <dc:description/>
  <dc:language>en-US</dc:language>
  <cp:lastModifiedBy>Angelica Morales (YAM0047 - INMEX-KCB3WTD)</cp:lastModifiedBy>
  <dcterms:modified xsi:type="dcterms:W3CDTF">2006-01-23T17:11:28Z</dcterms:modified>
  <cp:revision>1</cp:revision>
  <dc:subject/>
  <dc:title>Empieza por hacer lo necesario, luego lo que es posible... y de pronto estarás haciendo lo imposible" Una vez que envíes el mensaje aprieta F6 y veras lo que te aparece....insólito pero cierto.....da miedo pero es cierto....suerte.                                                                                                                                     Manda esto a 15 personas en los próximos 143 minutos, luego presiona F6 y el nombre de quien t ama aparecerá en letra grande, da tanto miedo por qué es real pero si rompes esta cadena serás castigado con problemas en sus próximas relaciones de por vida copia y pégalo .. </dc:title>
</cp:coreProperties>
</file>