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CLIC.WAV" ContentType="audio/x-wav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TristeeMelancolico.wav" ContentType="audio/x-wav"/>
  <Override PartName="/ppt/media/image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BB77-CFB0-43BC-A1CA-D404DE9BE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C741-A410-44BE-8929-A53463DFB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0264-B8C1-4650-BC39-374736A32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D16C-4307-4106-BCE0-7677D48C3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DFC0-D731-4786-87BF-36E0DD4E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64D4-6564-4E91-B09D-507A664D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9A9A-E060-45CA-B856-F554AA26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310C-2E35-4CAB-A2CA-F81E2918B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5E85-41D1-4471-8A11-D512A9112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D3F0-79F0-47E2-98DA-FA04EF98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38A7-DAB7-49D5-98A6-FFBFF00E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AF7B-512B-4FCA-BE6D-CCAF13E5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31AEB-6555-45A4-AE8E-E8781AD860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risteeMelancolico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TristeeMelancolico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835280" y="2349360"/>
            <a:ext cx="3695400" cy="148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¿Cual es la razón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or la que estamos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 favor de la Paz?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sp>
          <p:nvSpPr>
            <p:cNvPr id="53" name=""/>
            <p:cNvSpPr/>
            <p:nvPr/>
          </p:nvSpPr>
          <p:spPr>
            <a:xfrm>
              <a:off x="7772400" y="0"/>
              <a:ext cx="137160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8153280" cy="68594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1920" y="431640"/>
            <a:ext cx="9047160" cy="602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00000" y="714240"/>
            <a:ext cx="7499520" cy="552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00000" y="765000"/>
            <a:ext cx="7499520" cy="540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95280" y="115920"/>
            <a:ext cx="8288280" cy="5597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268360" y="580536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Nagasaki póst-holocausto nucl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216080" y="44280"/>
            <a:ext cx="6811920" cy="5169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050920" y="5373720"/>
            <a:ext cx="55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Sin palab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71640" y="1004760"/>
            <a:ext cx="748800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L MUNDO ESTÁ EN GUER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L MUNDO ESTÁ DE L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STE  e-mail  DEBE  RECORRER  LA  TIE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Y CONVENCER INCLUSO A AQUELL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UE NO QUIEREN COMPRENDER. </a:t>
            </a:r>
            <a:br>
              <a:rPr sz="2400"/>
            </a:b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XIGIMOS QUE EN NUESTRO PLAN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PAZ SE SOBREPONGA A TODAS LAS COS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4360" y="1187280"/>
            <a:ext cx="7848360" cy="4483080"/>
          </a:xfrm>
          <a:prstGeom prst="rect">
            <a:avLst/>
          </a:prstGeom>
          <a:noFill/>
          <a:ln w="0">
            <a:noFill/>
          </a:ln>
          <a:effectLst>
            <a:outerShdw dist="12600" dir="108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EDIMOS  QUE  ESTE  e-mail  SEA  TRADUCIDO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 TODAS LAS LENGUA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ARA QUE 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IN DISTINCIÓN DE RAZA, DE COLO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E RELIGIÓN O DE NACIONALIDA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UEDAN PARTICIPAR DE ESTA G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ETICIÓN POR LA PA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116000" y="33336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Gracias por no romper esta cade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42920" y="5054760"/>
            <a:ext cx="64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Que todos los seres, en todos el mundo, sean felices y bienaventurado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46000" y="620640"/>
            <a:ext cx="7471080" cy="5607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476360" y="3573360"/>
            <a:ext cx="59752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merican Classic Extra Bold"/>
              </a:rPr>
              <a:t>Paz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merican Classic Extra Bold"/>
              </a:rPr>
              <a:t>Pea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merican Classic Extra Bold"/>
              </a:rPr>
              <a:t>Shant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04880" y="609480"/>
            <a:ext cx="7734240" cy="548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6859440" cy="447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195640" y="404640"/>
            <a:ext cx="4595760" cy="616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7661520" cy="514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44480" y="836640"/>
            <a:ext cx="7788240" cy="521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87280" y="981000"/>
            <a:ext cx="6959880" cy="521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95640" y="271440"/>
            <a:ext cx="4883040" cy="639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700360" y="692280"/>
            <a:ext cx="3684600" cy="564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14:16:47Z</dcterms:created>
  <dc:creator/>
  <dc:description/>
  <dc:language>en-US</dc:language>
  <cp:lastModifiedBy>Gaspar V.</cp:lastModifiedBy>
  <dcterms:modified xsi:type="dcterms:W3CDTF">2006-10-16T23:11:03Z</dcterms:modified>
  <cp:revision>30</cp:revision>
  <dc:subject/>
  <dc:title>Por la Paz</dc:title>
</cp:coreProperties>
</file>