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Track09.wav" ContentType="audio/x-wav"/>
  <Override PartName="/ppt/media/image13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F2E5-82FD-4773-8187-B18DB748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1AB4-ABD1-4594-8050-D042E4C7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E4A5-EEAA-44C3-AFA5-15DCCD46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11AE-184C-44DF-AFB3-7362E72B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F1B9-0FB6-44C0-BF82-77EFC1D4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868A-B48E-4D50-965A-DAEE97C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2FBD-9A78-4AA7-B5DD-A66BB623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DD5A-DEA2-44A4-B0AA-620CE04B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4E89-1E0C-4902-8E91-532E9A68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FA9C-0761-47A1-A8E3-DD435A77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E70C-318F-4C07-B07D-80A11FF1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1981-18FE-424B-B315-1C82CDA1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5AF1-202C-4772-B1E1-A6CC71D7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58A7-3750-4E3C-8D4C-80D299B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3C95-F0C9-4A97-B454-E76B160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CE47-F1E0-477C-916D-A1DD5BEC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9113-5E0A-41EE-9C86-DD3D0E04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F29A-201E-42BC-AE3D-AD0EFB15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CDDE-C4A2-4683-9EB9-E7DE02D9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9F5D-E5EE-4764-A7D8-96F88154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113D-0AC9-4760-878B-48432108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07BC-763B-4C05-B518-0AF0EF19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073B-7ECE-4E51-886D-515ADC32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D59D-B4E2-412E-8036-A60983A4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BFA4-95BE-4E9B-A5C9-8FAA686C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52A5-861E-44F9-92D0-4BF7CB20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F39A-CDB9-4E1D-95A6-2B69AE42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DD8F-F118-4D20-9C85-DB492FF7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818A-4C82-48AB-9CD2-717F8584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4F6B-5008-439C-B350-5A79DC3F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71FC-38CC-4820-AB3C-2B6B3D77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3C4F-D308-436A-BCD2-7E95F50F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355E-AB49-4170-94BD-715F1DCF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06C1-9C2D-452A-A7AF-9141D88A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A20C-391F-42AC-A25B-CB0DCDB8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D193-03BC-499A-870C-0DBACD80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5D15-0F95-4022-8945-1D0C2D4C1E6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D9F-3F3A-459C-A2D5-0F03FE5D89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6F8F-9337-47CB-BFD5-69F993ABA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rack09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54936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Lucida Calligraphy"/>
              </a:rPr>
              <a:t>Mensaje de Navida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531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462840" y="641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Lucida Calligraphy"/>
              </a:rPr>
              <a:t>Sonido - m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wheel spokes="1"/>
    <p:sndAc>
      <p:stSnd>
        <p:snd r:embed="rId2" name="Track0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1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6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1773360"/>
            <a:ext cx="27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tristeza, alégrate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Gozo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141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1557360"/>
            <a:ext cx="295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enemigos, reconcíliate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Paz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amigos, búscalos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Encuent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59272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Feliz Navidad!"/>
          <p:cNvPicPr/>
          <p:nvPr/>
        </p:nvPicPr>
        <p:blipFill>
          <a:blip r:embed="rId3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eliz Navidad!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32000" y="5157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989000"/>
            <a:ext cx="23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a tus padres a tu lado, ayúdalos.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D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068640"/>
            <a:ext cx="287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tiniebl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enciende tu lámpara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Luz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167280" cy="316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Feliz Navidad!!!"/>
          <p:cNvPicPr/>
          <p:nvPr/>
        </p:nvPicPr>
        <p:blipFill>
          <a:blip r:embed="rId3"/>
          <a:stretch/>
        </p:blipFill>
        <p:spPr>
          <a:xfrm>
            <a:off x="250920" y="260280"/>
            <a:ext cx="10778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eliz Navidad!!!"/>
          <p:cNvPicPr/>
          <p:nvPr/>
        </p:nvPicPr>
        <p:blipFill>
          <a:blip r:embed="rId4"/>
          <a:stretch/>
        </p:blipFill>
        <p:spPr>
          <a:xfrm>
            <a:off x="7885080" y="189000"/>
            <a:ext cx="107460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467240" y="3381480"/>
            <a:ext cx="20952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1628640"/>
            <a:ext cx="280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soberbia, sepúltal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Humildad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deudas, págalas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Justicia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errores, reflexion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Verda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2376360" cy="217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12960" cy="3527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35640" y="260280"/>
            <a:ext cx="2736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pecados, conviértete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Gracia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odio, olvídalo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Amor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FELIZ NAVIDAD Y MUCHO AMOR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1057320" cy="1095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987640" y="314172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68360" y="3429000"/>
            <a:ext cx="920880" cy="1203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1547640" y="2133720"/>
            <a:ext cx="703440" cy="1849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0" y="5877000"/>
            <a:ext cx="1319040" cy="801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eliz Navidad!"/>
          <p:cNvPicPr/>
          <p:nvPr/>
        </p:nvPicPr>
        <p:blipFill>
          <a:blip r:embed="rId9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eliz Navidad!"/>
          <p:cNvPicPr/>
          <p:nvPr/>
        </p:nvPicPr>
        <p:blipFill>
          <a:blip r:embed="rId10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4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4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4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94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4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43280" y="5013360"/>
            <a:ext cx="308592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3657600" cy="394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59:53Z</dcterms:created>
  <dc:creator>Usuario</dc:creator>
  <dc:description/>
  <dc:language>en-US</dc:language>
  <cp:lastModifiedBy>HecvarF</cp:lastModifiedBy>
  <dcterms:modified xsi:type="dcterms:W3CDTF">2007-12-02T09:43:17Z</dcterms:modified>
  <cp:revision>4</cp:revision>
  <dc:subject/>
  <dc:title>Diapositiva 1</dc:title>
</cp:coreProperties>
</file>