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A9F-DCA8-4E65-BFCB-135E13C9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DB6-B046-4385-876D-1C9F8ED4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B76-153B-470E-8954-462215A6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7DD-08DA-4380-A301-A2ACED52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228-607E-4401-96AA-1C0B0B3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6DA-9981-4E0F-B9F8-627848B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6CD-A7DD-4546-ACE2-F975E8D5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AA8-5CEB-4E89-B9C4-8721FD9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7EB-7F7D-4C51-A63A-17517EF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FC7-C6CB-481F-8DD1-5ACA5E44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8EE-8C19-442E-8E92-9851507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454-47D2-4C0C-9C86-198B048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17DA-E675-4376-AD5F-FFDEB918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95360"/>
            <a:ext cx="8521560" cy="6238800"/>
          </a:xfrm>
          <a:custGeom>
            <a:avLst/>
            <a:gdLst/>
            <a:ahLst/>
            <a:rect l="l" t="t" r="r" b="b"/>
            <a:pathLst>
              <a:path w="5368" h="3930">
                <a:moveTo>
                  <a:pt x="5368" y="0"/>
                </a:moveTo>
                <a:lnTo>
                  <a:pt x="5368" y="3930"/>
                </a:lnTo>
                <a:lnTo>
                  <a:pt x="2578" y="3927"/>
                </a:lnTo>
                <a:lnTo>
                  <a:pt x="5" y="3927"/>
                </a:lnTo>
                <a:lnTo>
                  <a:pt x="0" y="7"/>
                </a:lnTo>
                <a:lnTo>
                  <a:pt x="5368" y="0"/>
                </a:lnTo>
                <a:close/>
              </a:path>
            </a:pathLst>
          </a:cu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5400" y="1968480"/>
            <a:ext cx="1792080" cy="2139840"/>
          </a:xfrm>
          <a:custGeom>
            <a:avLst/>
            <a:gdLst/>
            <a:ahLst/>
            <a:rect l="l" t="t" r="r" b="b"/>
            <a:pathLst>
              <a:path w="826" h="868">
                <a:moveTo>
                  <a:pt x="0" y="0"/>
                </a:moveTo>
                <a:lnTo>
                  <a:pt x="826" y="0"/>
                </a:lnTo>
                <a:lnTo>
                  <a:pt x="826" y="868"/>
                </a:lnTo>
                <a:lnTo>
                  <a:pt x="6" y="868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88880"/>
            <a:ext cx="3222720" cy="1484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3160" y="4191120"/>
            <a:ext cx="1457280" cy="23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712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1240" y="55450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748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9400" y="34894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6840" y="2911320"/>
            <a:ext cx="0" cy="119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080" y="366408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73520" y="2908440"/>
            <a:ext cx="4680" cy="11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781200"/>
            <a:ext cx="1038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ant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ALF 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143240"/>
            <a:ext cx="80899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3095640"/>
            <a:ext cx="352440" cy="4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22520" y="3533760"/>
            <a:ext cx="0" cy="571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00" y="4159080"/>
            <a:ext cx="141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FE (SECRET/4 EY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09920" y="4179960"/>
            <a:ext cx="9360" cy="9604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www.richard-seaman.com/Aircraft/AirShows/Nellis2006/Highlights/index.html"/>
          <p:cNvPicPr/>
          <p:nvPr/>
        </p:nvPicPr>
        <p:blipFill>
          <a:blip r:embed="rId2"/>
          <a:srcRect l="4465" t="0" r="0" b="8725"/>
          <a:stretch/>
        </p:blipFill>
        <p:spPr>
          <a:xfrm>
            <a:off x="4983120" y="928800"/>
            <a:ext cx="847800" cy="5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1720" y="612720"/>
            <a:ext cx="1320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ator (surro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R/MTI, NFOV Vide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84480" y="1520640"/>
            <a:ext cx="343440" cy="612720"/>
            <a:chOff x="4884480" y="1520640"/>
            <a:chExt cx="343440" cy="612720"/>
          </a:xfrm>
        </p:grpSpPr>
        <p:sp>
          <p:nvSpPr>
            <p:cNvPr id="61" name=""/>
            <p:cNvSpPr/>
            <p:nvPr/>
          </p:nvSpPr>
          <p:spPr>
            <a:xfrm flipV="1">
              <a:off x="5014800" y="1520640"/>
              <a:ext cx="213120" cy="33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14800" y="1800720"/>
              <a:ext cx="82440" cy="5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84480" y="1800720"/>
              <a:ext cx="213120" cy="33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U-2 Dragon Lady"/>
          <p:cNvPicPr/>
          <p:nvPr/>
        </p:nvPicPr>
        <p:blipFill>
          <a:blip r:embed="rId3"/>
          <a:stretch/>
        </p:blipFill>
        <p:spPr>
          <a:xfrm>
            <a:off x="6816600" y="1015920"/>
            <a:ext cx="903240" cy="62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42840" y="1593720"/>
            <a:ext cx="89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1887" t="0" r="2268" b="0"/>
          <a:stretch/>
        </p:blipFill>
        <p:spPr>
          <a:xfrm>
            <a:off x="7311960" y="633240"/>
            <a:ext cx="846360" cy="579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594480" y="1652040"/>
            <a:ext cx="315720" cy="480960"/>
            <a:chOff x="6594480" y="1652040"/>
            <a:chExt cx="315720" cy="480960"/>
          </a:xfrm>
        </p:grpSpPr>
        <p:sp>
          <p:nvSpPr>
            <p:cNvPr id="68" name=""/>
            <p:cNvSpPr/>
            <p:nvPr/>
          </p:nvSpPr>
          <p:spPr>
            <a:xfrm flipV="1">
              <a:off x="6715440" y="1652040"/>
              <a:ext cx="19476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15440" y="1870920"/>
              <a:ext cx="73440" cy="42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94480" y="1871280"/>
              <a:ext cx="19512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652920" y="4572000"/>
            <a:ext cx="482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 Req’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0" t="0" r="0" b="25891"/>
          <a:stretch/>
        </p:blipFill>
        <p:spPr>
          <a:xfrm>
            <a:off x="4865760" y="5132520"/>
            <a:ext cx="704880" cy="99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065560" y="4179960"/>
            <a:ext cx="504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520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8940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6120" y="4175280"/>
            <a:ext cx="0" cy="971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720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165120" y="3395520"/>
            <a:ext cx="324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2440" y="339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0400" y="4179960"/>
            <a:ext cx="14040" cy="9572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37000" y="417528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36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303680" y="4176360"/>
            <a:ext cx="3240" cy="9558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rcRect l="2605" t="2299" r="4690" b="3822"/>
          <a:stretch/>
        </p:blipFill>
        <p:spPr>
          <a:xfrm>
            <a:off x="363600" y="1103400"/>
            <a:ext cx="847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76840" y="1396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E Architecture/Data Flow (Rev 5, 5 Aug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84600" y="2224080"/>
            <a:ext cx="455400" cy="687240"/>
            <a:chOff x="4584600" y="2224080"/>
            <a:chExt cx="455400" cy="687240"/>
          </a:xfrm>
        </p:grpSpPr>
        <p:grpSp>
          <p:nvGrpSpPr>
            <p:cNvPr id="87" name=""/>
            <p:cNvGrpSpPr/>
            <p:nvPr/>
          </p:nvGrpSpPr>
          <p:grpSpPr>
            <a:xfrm>
              <a:off x="4584960" y="2224080"/>
              <a:ext cx="455040" cy="246240"/>
              <a:chOff x="4584960" y="2224080"/>
              <a:chExt cx="45504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2924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8496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84600" y="2665080"/>
              <a:ext cx="441360" cy="246240"/>
              <a:chOff x="4584600" y="2665080"/>
              <a:chExt cx="44136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462924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460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2904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86320" y="2224080"/>
            <a:ext cx="455400" cy="687240"/>
            <a:chOff x="6286320" y="2224080"/>
            <a:chExt cx="455400" cy="687240"/>
          </a:xfrm>
        </p:grpSpPr>
        <p:grpSp>
          <p:nvGrpSpPr>
            <p:cNvPr id="95" name=""/>
            <p:cNvGrpSpPr/>
            <p:nvPr/>
          </p:nvGrpSpPr>
          <p:grpSpPr>
            <a:xfrm>
              <a:off x="6286680" y="2224080"/>
              <a:ext cx="455040" cy="246240"/>
              <a:chOff x="6286680" y="2224080"/>
              <a:chExt cx="455040" cy="246240"/>
            </a:xfrm>
          </p:grpSpPr>
          <p:sp>
            <p:nvSpPr>
              <p:cNvPr id="96" name=""/>
              <p:cNvSpPr/>
              <p:nvPr/>
            </p:nvSpPr>
            <p:spPr>
              <a:xfrm>
                <a:off x="633096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8668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286320" y="2665080"/>
              <a:ext cx="441360" cy="246240"/>
              <a:chOff x="6286320" y="2665080"/>
              <a:chExt cx="441360" cy="246240"/>
            </a:xfrm>
          </p:grpSpPr>
          <p:sp>
            <p:nvSpPr>
              <p:cNvPr id="99" name=""/>
              <p:cNvSpPr/>
              <p:nvPr/>
            </p:nvSpPr>
            <p:spPr>
              <a:xfrm>
                <a:off x="633096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8632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3076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84520" y="5143680"/>
            <a:ext cx="1741320" cy="799920"/>
            <a:chOff x="1784520" y="5143680"/>
            <a:chExt cx="1741320" cy="799920"/>
          </a:xfrm>
        </p:grpSpPr>
        <p:sp>
          <p:nvSpPr>
            <p:cNvPr id="103" name=""/>
            <p:cNvSpPr/>
            <p:nvPr/>
          </p:nvSpPr>
          <p:spPr>
            <a:xfrm>
              <a:off x="1784520" y="5143680"/>
              <a:ext cx="17413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1809720" y="5168880"/>
              <a:ext cx="166716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1280" y="5624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7360" y="56246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nuiView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Pixia Plug-i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36640" y="3119400"/>
            <a:ext cx="38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Isil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St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440" y="488880"/>
            <a:ext cx="8548560" cy="624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8600" y="1015920"/>
            <a:ext cx="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6400" y="976320"/>
            <a:ext cx="61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ost-flig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fflo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39720" y="1227240"/>
            <a:ext cx="517320" cy="390600"/>
            <a:chOff x="1539720" y="1227240"/>
            <a:chExt cx="517320" cy="3906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rcRect l="2110" t="56824" r="85913" b="31906"/>
            <a:stretch/>
          </p:blipFill>
          <p:spPr>
            <a:xfrm>
              <a:off x="1544400" y="1227240"/>
              <a:ext cx="512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45840" y="122868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0" y="28"/>
                  </a:moveTo>
                  <a:lnTo>
                    <a:pt x="129" y="26"/>
                  </a:lnTo>
                  <a:lnTo>
                    <a:pt x="189" y="54"/>
                  </a:lnTo>
                  <a:lnTo>
                    <a:pt x="233" y="36"/>
                  </a:lnTo>
                  <a:lnTo>
                    <a:pt x="276" y="56"/>
                  </a:lnTo>
                  <a:lnTo>
                    <a:pt x="320" y="56"/>
                  </a:lnTo>
                  <a:lnTo>
                    <a:pt x="318" y="0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1228680"/>
              <a:ext cx="517320" cy="36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4600" y="1449360"/>
              <a:ext cx="184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84240" y="417996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560" y="418140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10240" y="417672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7600" y="3479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8680" y="1380960"/>
            <a:ext cx="295200" cy="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7040" y="736560"/>
            <a:ext cx="441360" cy="246240"/>
            <a:chOff x="2327040" y="736560"/>
            <a:chExt cx="441360" cy="246240"/>
          </a:xfrm>
        </p:grpSpPr>
        <p:sp>
          <p:nvSpPr>
            <p:cNvPr id="122" name=""/>
            <p:cNvSpPr/>
            <p:nvPr/>
          </p:nvSpPr>
          <p:spPr>
            <a:xfrm>
              <a:off x="2371680" y="753840"/>
              <a:ext cx="368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7040" y="736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085840" y="1009440"/>
            <a:ext cx="260640" cy="1998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960" y="519120"/>
            <a:ext cx="42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/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84960" y="992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800" y="52236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29336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2" descr="MCj03000550000[1]"/>
          <p:cNvPicPr/>
          <p:nvPr/>
        </p:nvPicPr>
        <p:blipFill>
          <a:blip r:embed="rId9"/>
          <a:stretch/>
        </p:blipFill>
        <p:spPr>
          <a:xfrm>
            <a:off x="3106800" y="795240"/>
            <a:ext cx="301680" cy="16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90720" y="828720"/>
            <a:ext cx="295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1760" y="132084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2" descr="MCj03000550000[1]"/>
          <p:cNvPicPr/>
          <p:nvPr/>
        </p:nvPicPr>
        <p:blipFill>
          <a:blip r:embed="rId10"/>
          <a:stretch/>
        </p:blipFill>
        <p:spPr>
          <a:xfrm>
            <a:off x="2406600" y="1380960"/>
            <a:ext cx="301680" cy="168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55720" y="3076560"/>
            <a:ext cx="666360" cy="519120"/>
            <a:chOff x="1755720" y="3076560"/>
            <a:chExt cx="666360" cy="519120"/>
          </a:xfrm>
        </p:grpSpPr>
        <p:grpSp>
          <p:nvGrpSpPr>
            <p:cNvPr id="134" name=""/>
            <p:cNvGrpSpPr/>
            <p:nvPr/>
          </p:nvGrpSpPr>
          <p:grpSpPr>
            <a:xfrm>
              <a:off x="1763640" y="3110040"/>
              <a:ext cx="390600" cy="476280"/>
              <a:chOff x="1763640" y="3110040"/>
              <a:chExt cx="390600" cy="4762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3640" y="311004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763640" y="345600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5720" y="3076560"/>
              <a:ext cx="666360" cy="519120"/>
              <a:chOff x="1755720" y="3076560"/>
              <a:chExt cx="666360" cy="519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55720" y="3100320"/>
                <a:ext cx="406080" cy="495360"/>
                <a:chOff x="1755720" y="3100320"/>
                <a:chExt cx="406080" cy="495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55720" y="310032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7160" y="339876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271600" y="307656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560600" y="2071800"/>
            <a:ext cx="666360" cy="519120"/>
            <a:chOff x="1560600" y="2071800"/>
            <a:chExt cx="666360" cy="519120"/>
          </a:xfrm>
        </p:grpSpPr>
        <p:grpSp>
          <p:nvGrpSpPr>
            <p:cNvPr id="143" name=""/>
            <p:cNvGrpSpPr/>
            <p:nvPr/>
          </p:nvGrpSpPr>
          <p:grpSpPr>
            <a:xfrm>
              <a:off x="1573200" y="2104920"/>
              <a:ext cx="390600" cy="476280"/>
              <a:chOff x="1573200" y="2104920"/>
              <a:chExt cx="390600" cy="476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3200" y="210492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573200" y="245088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60600" y="2071800"/>
              <a:ext cx="666360" cy="519120"/>
              <a:chOff x="1560600" y="2071800"/>
              <a:chExt cx="666360" cy="5191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60600" y="2095560"/>
                <a:ext cx="406080" cy="495360"/>
                <a:chOff x="1560600" y="2095560"/>
                <a:chExt cx="406080" cy="495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60600" y="209556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2040" y="239400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2076480" y="207180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265760" y="2309760"/>
            <a:ext cx="55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roces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0800" y="1781280"/>
            <a:ext cx="1035360" cy="1390680"/>
            <a:chOff x="910800" y="1781280"/>
            <a:chExt cx="1035360" cy="1390680"/>
          </a:xfrm>
        </p:grpSpPr>
        <p:sp>
          <p:nvSpPr>
            <p:cNvPr id="153" name=""/>
            <p:cNvSpPr/>
            <p:nvPr/>
          </p:nvSpPr>
          <p:spPr>
            <a:xfrm flipH="1">
              <a:off x="910800" y="1781280"/>
              <a:ext cx="468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6240" y="2455920"/>
              <a:ext cx="1699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03760" y="321624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3880" y="32655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3297240"/>
            <a:ext cx="48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Enco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1654200"/>
            <a:ext cx="0" cy="4618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776240"/>
            <a:ext cx="167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59084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85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229068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00200" y="2295360"/>
            <a:ext cx="14400" cy="8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200" y="2933640"/>
            <a:ext cx="2905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440" y="28004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3800" y="28051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41360" y="3749760"/>
            <a:ext cx="244800" cy="231120"/>
            <a:chOff x="2241360" y="3749760"/>
            <a:chExt cx="244800" cy="231120"/>
          </a:xfrm>
        </p:grpSpPr>
        <p:sp>
          <p:nvSpPr>
            <p:cNvPr id="168" name=""/>
            <p:cNvSpPr/>
            <p:nvPr/>
          </p:nvSpPr>
          <p:spPr>
            <a:xfrm>
              <a:off x="2292480" y="379116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1360" y="3749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782800"/>
            <a:ext cx="244800" cy="231120"/>
            <a:chOff x="2495520" y="2782800"/>
            <a:chExt cx="244800" cy="231120"/>
          </a:xfrm>
        </p:grpSpPr>
        <p:sp>
          <p:nvSpPr>
            <p:cNvPr id="171" name=""/>
            <p:cNvSpPr/>
            <p:nvPr/>
          </p:nvSpPr>
          <p:spPr>
            <a:xfrm>
              <a:off x="2548080" y="28209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5520" y="2782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58840" y="2583000"/>
            <a:ext cx="244800" cy="231120"/>
            <a:chOff x="1158840" y="2583000"/>
            <a:chExt cx="244800" cy="231120"/>
          </a:xfrm>
        </p:grpSpPr>
        <p:sp>
          <p:nvSpPr>
            <p:cNvPr id="174" name=""/>
            <p:cNvSpPr/>
            <p:nvPr/>
          </p:nvSpPr>
          <p:spPr>
            <a:xfrm>
              <a:off x="1211400" y="262620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8840" y="2583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050920" y="3375000"/>
            <a:ext cx="244800" cy="231120"/>
            <a:chOff x="2050920" y="3375000"/>
            <a:chExt cx="244800" cy="231120"/>
          </a:xfrm>
        </p:grpSpPr>
        <p:sp>
          <p:nvSpPr>
            <p:cNvPr id="177" name=""/>
            <p:cNvSpPr/>
            <p:nvPr/>
          </p:nvSpPr>
          <p:spPr>
            <a:xfrm>
              <a:off x="2103480" y="34131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0920" y="337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2600" y="2244600"/>
            <a:ext cx="244800" cy="231120"/>
            <a:chOff x="642600" y="2244600"/>
            <a:chExt cx="244800" cy="231120"/>
          </a:xfrm>
        </p:grpSpPr>
        <p:sp>
          <p:nvSpPr>
            <p:cNvPr id="180" name=""/>
            <p:cNvSpPr/>
            <p:nvPr/>
          </p:nvSpPr>
          <p:spPr>
            <a:xfrm>
              <a:off x="695160" y="2282760"/>
              <a:ext cx="1472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00" y="2244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41040" y="2058840"/>
            <a:ext cx="244800" cy="231120"/>
            <a:chOff x="941040" y="2058840"/>
            <a:chExt cx="244800" cy="231120"/>
          </a:xfrm>
        </p:grpSpPr>
        <p:sp>
          <p:nvSpPr>
            <p:cNvPr id="183" name=""/>
            <p:cNvSpPr/>
            <p:nvPr/>
          </p:nvSpPr>
          <p:spPr>
            <a:xfrm>
              <a:off x="993600" y="2097000"/>
              <a:ext cx="147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1040" y="2058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43000" y="2971800"/>
            <a:ext cx="147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2933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3360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86848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088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1040" y="1611360"/>
            <a:ext cx="6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040" y="2571840"/>
            <a:ext cx="570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5600" y="3008160"/>
            <a:ext cx="244800" cy="231120"/>
            <a:chOff x="2055600" y="3008160"/>
            <a:chExt cx="244800" cy="231120"/>
          </a:xfrm>
        </p:grpSpPr>
        <p:sp>
          <p:nvSpPr>
            <p:cNvPr id="194" name=""/>
            <p:cNvSpPr/>
            <p:nvPr/>
          </p:nvSpPr>
          <p:spPr>
            <a:xfrm>
              <a:off x="2108160" y="304632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5600" y="3008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70160" y="310680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14840" y="4172040"/>
            <a:ext cx="3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100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96080" y="560088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rcRect l="0" t="61378" r="0" b="0"/>
          <a:stretch/>
        </p:blipFill>
        <p:spPr>
          <a:xfrm>
            <a:off x="4865760" y="5632560"/>
            <a:ext cx="7048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966000" y="5132520"/>
            <a:ext cx="706320" cy="1014120"/>
            <a:chOff x="6966000" y="5132520"/>
            <a:chExt cx="706320" cy="10141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rcRect l="0" t="0" r="0" b="28168"/>
            <a:stretch/>
          </p:blipFill>
          <p:spPr>
            <a:xfrm>
              <a:off x="6967440" y="5132520"/>
              <a:ext cx="704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rcRect l="0" t="61378" r="0" b="0"/>
            <a:stretch/>
          </p:blipFill>
          <p:spPr>
            <a:xfrm>
              <a:off x="6966000" y="5627520"/>
              <a:ext cx="704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738400" y="5106960"/>
            <a:ext cx="741240" cy="1044360"/>
            <a:chOff x="5738400" y="5106960"/>
            <a:chExt cx="741240" cy="1044360"/>
          </a:xfrm>
        </p:grpSpPr>
        <p:grpSp>
          <p:nvGrpSpPr>
            <p:cNvPr id="206" name=""/>
            <p:cNvGrpSpPr/>
            <p:nvPr/>
          </p:nvGrpSpPr>
          <p:grpSpPr>
            <a:xfrm>
              <a:off x="5775120" y="5132160"/>
              <a:ext cx="704520" cy="1019160"/>
              <a:chOff x="5775120" y="5132160"/>
              <a:chExt cx="704520" cy="1019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6"/>
              <a:srcRect l="0" t="0" r="0" b="28732"/>
              <a:stretch/>
            </p:blipFill>
            <p:spPr>
              <a:xfrm>
                <a:off x="5775120" y="5132160"/>
                <a:ext cx="704520" cy="9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7"/>
              <a:srcRect l="0" t="61378" r="0" b="0"/>
              <a:stretch/>
            </p:blipFill>
            <p:spPr>
              <a:xfrm>
                <a:off x="5775120" y="5632200"/>
                <a:ext cx="7045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"/>
            <p:cNvGrpSpPr/>
            <p:nvPr/>
          </p:nvGrpSpPr>
          <p:grpSpPr>
            <a:xfrm>
              <a:off x="5738400" y="5106960"/>
              <a:ext cx="718920" cy="231120"/>
              <a:chOff x="5738400" y="5106960"/>
              <a:chExt cx="718920" cy="23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5640" y="5148360"/>
                <a:ext cx="661680" cy="156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8400" y="5106960"/>
                <a:ext cx="44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S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77476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008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65560" y="418464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6120" y="4179600"/>
            <a:ext cx="0" cy="971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35560" y="418608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05600" y="54039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3480" y="510048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 Rm 4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920" y="181764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292248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7760" y="375588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51240" y="35161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59120" y="34668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4640" y="2679840"/>
            <a:ext cx="414000" cy="246240"/>
            <a:chOff x="674640" y="2679840"/>
            <a:chExt cx="414000" cy="246240"/>
          </a:xfrm>
        </p:grpSpPr>
        <p:sp>
          <p:nvSpPr>
            <p:cNvPr id="225" name=""/>
            <p:cNvSpPr/>
            <p:nvPr/>
          </p:nvSpPr>
          <p:spPr>
            <a:xfrm>
              <a:off x="718920" y="2697120"/>
              <a:ext cx="3679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4640" y="267984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v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2680" y="3597120"/>
            <a:ext cx="64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28600" y="2847600"/>
            <a:ext cx="74304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114560" y="2757240"/>
            <a:ext cx="7617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80640" y="228600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366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440" y="347976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09720" y="293040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4000" y="37558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75360" y="650880"/>
            <a:ext cx="196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86688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64280" y="1444680"/>
            <a:ext cx="444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4280" y="1739880"/>
            <a:ext cx="44460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9560" y="6969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TP, HTTP, email,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8840" y="1274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aming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UDP, ??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160812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pera file xf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1920" y="1905120"/>
            <a:ext cx="407880" cy="16812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2157480"/>
            <a:ext cx="407880" cy="16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2880" y="187488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GA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62880" y="212724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FCO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2200" y="2443320"/>
            <a:ext cx="408240" cy="1681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3520" y="2413080"/>
            <a:ext cx="13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 P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61240" y="281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64280" y="11523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98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ual disk xfers (“sneaker-net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440" y="363600"/>
            <a:ext cx="4041000" cy="276480"/>
            <a:chOff x="271440" y="363600"/>
            <a:chExt cx="4041000" cy="276480"/>
          </a:xfrm>
        </p:grpSpPr>
        <p:grpSp>
          <p:nvGrpSpPr>
            <p:cNvPr id="252" name=""/>
            <p:cNvGrpSpPr/>
            <p:nvPr/>
          </p:nvGrpSpPr>
          <p:grpSpPr>
            <a:xfrm>
              <a:off x="271440" y="395280"/>
              <a:ext cx="244800" cy="231120"/>
              <a:chOff x="271440" y="395280"/>
              <a:chExt cx="244800" cy="231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24000" y="4334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440" y="395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16960" y="363600"/>
              <a:ext cx="37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1440" y="1041480"/>
            <a:ext cx="4657680" cy="276480"/>
            <a:chOff x="271440" y="1041480"/>
            <a:chExt cx="4657680" cy="276480"/>
          </a:xfrm>
        </p:grpSpPr>
        <p:grpSp>
          <p:nvGrpSpPr>
            <p:cNvPr id="257" name=""/>
            <p:cNvGrpSpPr/>
            <p:nvPr/>
          </p:nvGrpSpPr>
          <p:grpSpPr>
            <a:xfrm>
              <a:off x="271440" y="1065240"/>
              <a:ext cx="244800" cy="231120"/>
              <a:chOff x="271440" y="1065240"/>
              <a:chExt cx="24480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000" y="110340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1440" y="106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4800" y="1041480"/>
              <a:ext cx="44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1440" y="1379520"/>
            <a:ext cx="4124160" cy="276480"/>
            <a:chOff x="271440" y="1379520"/>
            <a:chExt cx="4124160" cy="276480"/>
          </a:xfrm>
        </p:grpSpPr>
        <p:grpSp>
          <p:nvGrpSpPr>
            <p:cNvPr id="262" name=""/>
            <p:cNvGrpSpPr/>
            <p:nvPr/>
          </p:nvGrpSpPr>
          <p:grpSpPr>
            <a:xfrm>
              <a:off x="271440" y="1403280"/>
              <a:ext cx="244800" cy="231120"/>
              <a:chOff x="271440" y="1403280"/>
              <a:chExt cx="244800" cy="231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24000" y="144648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1440" y="140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7680" y="1379520"/>
              <a:ext cx="38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71440" y="2736720"/>
            <a:ext cx="3978720" cy="276480"/>
            <a:chOff x="271440" y="2736720"/>
            <a:chExt cx="3978720" cy="276480"/>
          </a:xfrm>
        </p:grpSpPr>
        <p:grpSp>
          <p:nvGrpSpPr>
            <p:cNvPr id="267" name=""/>
            <p:cNvGrpSpPr/>
            <p:nvPr/>
          </p:nvGrpSpPr>
          <p:grpSpPr>
            <a:xfrm>
              <a:off x="271440" y="2760480"/>
              <a:ext cx="244800" cy="231120"/>
              <a:chOff x="271440" y="2760480"/>
              <a:chExt cx="244800" cy="2311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4000" y="279864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1440" y="2760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6960" y="273672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1440" y="701640"/>
            <a:ext cx="3507840" cy="276480"/>
            <a:chOff x="271440" y="701640"/>
            <a:chExt cx="3507840" cy="276480"/>
          </a:xfrm>
        </p:grpSpPr>
        <p:grpSp>
          <p:nvGrpSpPr>
            <p:cNvPr id="272" name=""/>
            <p:cNvGrpSpPr/>
            <p:nvPr/>
          </p:nvGrpSpPr>
          <p:grpSpPr>
            <a:xfrm>
              <a:off x="271440" y="725760"/>
              <a:ext cx="244800" cy="231120"/>
              <a:chOff x="271440" y="725760"/>
              <a:chExt cx="244800" cy="231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9320" y="76392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1440" y="725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20200" y="701640"/>
              <a:ext cx="325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1440" y="1719360"/>
            <a:ext cx="3895560" cy="276480"/>
            <a:chOff x="271440" y="1719360"/>
            <a:chExt cx="3895560" cy="276480"/>
          </a:xfrm>
        </p:grpSpPr>
        <p:grpSp>
          <p:nvGrpSpPr>
            <p:cNvPr id="277" name=""/>
            <p:cNvGrpSpPr/>
            <p:nvPr/>
          </p:nvGrpSpPr>
          <p:grpSpPr>
            <a:xfrm>
              <a:off x="271440" y="1743480"/>
              <a:ext cx="244800" cy="231120"/>
              <a:chOff x="271440" y="1743480"/>
              <a:chExt cx="244800" cy="231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4000" y="17816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1440" y="1743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16240" y="1719360"/>
              <a:ext cx="36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1440" y="2057400"/>
            <a:ext cx="3362400" cy="276480"/>
            <a:chOff x="271440" y="2057400"/>
            <a:chExt cx="3362400" cy="276480"/>
          </a:xfrm>
        </p:grpSpPr>
        <p:grpSp>
          <p:nvGrpSpPr>
            <p:cNvPr id="282" name=""/>
            <p:cNvGrpSpPr/>
            <p:nvPr/>
          </p:nvGrpSpPr>
          <p:grpSpPr>
            <a:xfrm>
              <a:off x="271440" y="2081160"/>
              <a:ext cx="244800" cy="231120"/>
              <a:chOff x="271440" y="2081160"/>
              <a:chExt cx="244800" cy="23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211932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1440" y="20811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9480" y="2057400"/>
              <a:ext cx="31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1440" y="2397240"/>
            <a:ext cx="4512240" cy="276480"/>
            <a:chOff x="271440" y="2397240"/>
            <a:chExt cx="4512240" cy="276480"/>
          </a:xfrm>
        </p:grpSpPr>
        <p:grpSp>
          <p:nvGrpSpPr>
            <p:cNvPr id="287" name=""/>
            <p:cNvGrpSpPr/>
            <p:nvPr/>
          </p:nvGrpSpPr>
          <p:grpSpPr>
            <a:xfrm>
              <a:off x="271440" y="2421000"/>
              <a:ext cx="244800" cy="231120"/>
              <a:chOff x="271440" y="2421000"/>
              <a:chExt cx="244800" cy="231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24000" y="245916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1440" y="2421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080" y="2397240"/>
              <a:ext cx="42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7:05:38Z</dcterms:created>
  <dc:creator>srs.user</dc:creator>
  <dc:description/>
  <dc:language>en-US</dc:language>
  <cp:lastModifiedBy>srs.user</cp:lastModifiedBy>
  <dcterms:modified xsi:type="dcterms:W3CDTF">2008-08-05T12:38:21Z</dcterms:modified>
  <cp:revision>70</cp:revision>
  <dc:subject/>
  <dc:title>Slide 1</dc:title>
</cp:coreProperties>
</file>