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786-7942-4178-8D24-37E1B247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BDF-B39D-417B-9367-5849F562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D49-AA3F-4107-AED7-E29912ED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FE44-B216-41B3-97C9-B25B0796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B09-A830-440E-81AA-7127B5FC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F841-E11B-4C76-92D2-2344A83F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DB1-2852-46B5-992A-AB39A359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FAC-65AF-4959-8CA2-4E441CED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ECA-E394-47DD-8206-D18AA2A1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35E-AECC-45C9-A11A-6102704A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EEDA-CAB3-492D-A9D0-E732E95A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B9B-9CC9-413B-BBFF-DC1C25C0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11E3-AA16-47BE-B855-B34955D21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40680" y="662940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UNCLASSIFIED//FO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v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e Challenge 2009 (EC09) Initiative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/Present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Airborne Overhead Cooperative 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295280"/>
            <a:ext cx="0" cy="51055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                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4400" y="1341360"/>
            <a:ext cx="360" cy="1085760"/>
            <a:chOff x="644400" y="1341360"/>
            <a:chExt cx="360" cy="1085760"/>
          </a:xfrm>
        </p:grpSpPr>
        <p:sp>
          <p:nvSpPr>
            <p:cNvPr id="51" name=""/>
            <p:cNvSpPr/>
            <p:nvPr/>
          </p:nvSpPr>
          <p:spPr>
            <a:xfrm>
              <a:off x="644400" y="13413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4400" y="14446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4400" y="1547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400" y="1650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400" y="17524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4400" y="18558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4400" y="19591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4400" y="20620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3733920"/>
            <a:ext cx="4411800" cy="4870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ive/Capability Thread Support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4120"/>
            <a:ext cx="682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tiv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9556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1447920"/>
            <a:ext cx="43434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z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09 Spons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 Description: ex: (Initiative) provides the capability to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24480" y="4102200"/>
            <a:ext cx="441936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l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tion Pa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C09 Funding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4029120"/>
            <a:ext cx="43783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e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ability Thread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Capabili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12640" y="194940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4400" y="3733920"/>
            <a:ext cx="47196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turity/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6320" y="217080"/>
            <a:ext cx="65232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Inser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320" y="1449360"/>
            <a:ext cx="86677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cific EC09 Objective(s) does initiative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150480"/>
            <a:ext cx="688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tive Suppor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90320"/>
            <a:ext cx="8382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/desired integration with othe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print/Logi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cation, ground support req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(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pecify which network to be connected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 RF su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66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Expect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390680"/>
            <a:ext cx="838224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390680"/>
            <a:ext cx="83822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280" y="35053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56:32Z</dcterms:created>
  <dc:creator>william.poppert</dc:creator>
  <dc:description/>
  <dc:language>en-US</dc:language>
  <cp:lastModifiedBy>john.kittle</cp:lastModifiedBy>
  <dcterms:modified xsi:type="dcterms:W3CDTF">2008-04-25T17:40:07Z</dcterms:modified>
  <cp:revision>12</cp:revision>
  <dc:subject/>
  <dc:title>Slide 1</dc:title>
</cp:coreProperties>
</file>