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B77-D2D5-4726-A115-F65AE58E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018-A614-4447-87CF-C9ED2E22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245-F2CE-4DA5-B530-ADFFF87C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A8B-C8BB-40A6-9926-F8E9019D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1D3-E668-4705-B176-A5F586D9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3C5-7071-45EE-860E-926A5F21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F22-BEFD-4B35-86D0-0CC28859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FC9-8606-4C82-9C28-497C05BC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E2E-FD2C-4D8D-9218-FC1E54D9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AFF-035E-4C1A-A0EF-ACA0B1A0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695-84A9-4810-B073-497795B8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678-48E9-46A1-9572-A84D0EF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2573-FD89-497A-BC95-7812C52140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ieza por hacer lo necesario, luego lo que es posible... y de pronto estarás haciendo lo imposible"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a vez que envíes el mensaje aprieta F6 y veras lo que te aparece....insólito pero cierto.....da miedo pero es cierto....suerte. </a:t>
            </a:r>
            <a:br>
              <a:rPr sz="1400"/>
            </a:b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40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nda esto a 15 personas en los próximos 143 minutos, luego presiona F6 y el nombre de quien t ama aparecerá en letra grande, da tanto miedo por qué es real pero si rompes esta cadena serás castigado con problemas en sus próximas relaciones de por vida copia y pégalo .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63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2:23:35Z</dcterms:created>
  <dc:creator>Said</dc:creator>
  <dc:description/>
  <dc:language>en-US</dc:language>
  <cp:lastModifiedBy>Angelica Morales (YAM0047 - INMEX-KCB3WTD)</cp:lastModifiedBy>
  <dcterms:modified xsi:type="dcterms:W3CDTF">2006-01-23T17:11:28Z</dcterms:modified>
  <cp:revision>1</cp:revision>
  <dc:subject/>
  <dc:title>Empieza por hacer lo necesario, luego lo que es posible... y de pronto estarás haciendo lo imposible" Una vez que envíes el mensaje aprieta F6 y veras lo que te aparece....insólito pero cierto.....da miedo pero es cierto....suerte.                                                                                                                                     Manda esto a 15 personas en los próximos 143 minutos, luego presiona F6 y el nombre de quien t ama aparecerá en letra grande, da tanto miedo por qué es real pero si rompes esta cadena serás castigado con problemas en sus próximas relaciones de por vida copia y pégalo .. </dc:title>
</cp:coreProperties>
</file>