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FBDD-9189-4884-8D51-2FC34CD82190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6DEC-C7EA-4EDB-92E9-C47C5AFA4A0E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AAB-850D-4C86-8018-70510223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F6E-7961-4342-AAF4-37D548CE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E89-22AC-4A40-9B40-46DEAE10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E44-90B1-4C9D-8806-22A94F43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5D3-CFD4-41E0-AECB-2D80A034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659-FE02-4BF7-B783-B02C98A1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744-6BC8-40E1-B64C-F0612BDA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B54-1AC5-4E25-9B11-63BE5C21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FE4-60EE-49D9-97BF-77126EA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9BB-E786-45D2-8D4A-19261639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DFE-63D3-4ECC-BC29-D3D1E929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C18-590C-4D1E-A1E2-BA6E3C3A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05C7-288C-4EA9-9A01-4D0066162A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498906674_d9e4438546_b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161645"/>
                </a:solidFill>
                <a:latin typeface="Britannic Bold"/>
                <a:ea typeface="바탕"/>
              </a:rPr>
              <a:t>La Fundación Con Vida tiene el placer de invitarles al Conversator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“</a:t>
            </a: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El  Origen de los Paisas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45"/>
                </a:solidFill>
                <a:latin typeface="Script MT Bold"/>
                <a:ea typeface="바탕"/>
              </a:rPr>
              <a:t>Por: Ricardo Saldarriaga Gav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Script MT Bold"/>
                <a:ea typeface="바탕"/>
              </a:rPr>
              <a:t>Una aproximación arqueológica a la identificación de las huellas prehispánicas  de nuestros múltiples orígene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Mayo 23 de 2008,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Sede Fundación Con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ra 68 A No. 46-A-7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Valor: $20.000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161645"/>
                </a:solidFill>
                <a:latin typeface="Britannic Bold"/>
                <a:ea typeface="Arial"/>
              </a:rPr>
              <a:t>(incluye copa de vino, pasabocas, plato fuerte y sorpresa musical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onfirmar asistencia al Tel: 2600237-260208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e-mail: fconvida@gmail.com</a:t>
            </a:r>
            <a:r>
              <a:rPr b="0" lang="es-CO" sz="20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61645"/>
                </a:solidFill>
                <a:latin typeface="Script MT Bold"/>
                <a:ea typeface="Arial"/>
              </a:rPr>
              <a:t>¡Esperamos Contar Con Tu Agradable Pres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0:21:53Z</dcterms:created>
  <dc:creator>   </dc:creator>
  <dc:description/>
  <dc:language>en-US</dc:language>
  <cp:lastModifiedBy>WinuE</cp:lastModifiedBy>
  <dcterms:modified xsi:type="dcterms:W3CDTF">2008-05-21T00:44:03Z</dcterms:modified>
  <cp:revision>24</cp:revision>
  <dc:subject/>
  <dc:title>Conversatorio  “El  Origen De  Los Paisas”  </dc:title>
</cp:coreProperties>
</file>