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FDC22-542F-4FC8-8094-B318D1A38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703B1-F2EA-4257-A4E7-E5C833004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4BCDC-7183-424A-85EB-5CBCA095C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82B6F-EB7C-4AFD-9800-013F82264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D8DFC-4068-4CB7-981B-552966A30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A8500-E2DC-4C05-AF69-9237DA7F2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ED160-A807-46DB-A1F4-A3216F7D4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8348D-DFD3-40CC-B236-DE974FA05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F5E9A-69DA-45B0-9CA6-F242747CE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BAA05-71B3-4479-9D81-6073FCAEA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AF7DB-BBD8-4C22-AA57-9C5EF284B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37D24-78C3-4520-B7C7-77A2BE925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CF3BE-9E48-4F2D-917C-21F505F807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0.wmf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7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916360" y="1628640"/>
          <a:ext cx="3240000" cy="2286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916360" y="1628640"/>
                    <a:ext cx="3240000" cy="2286000"/>
                  </a:xfrm>
                  <a:prstGeom prst="rect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71360" y="-40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4221000"/>
            <a:ext cx="8209080" cy="91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NO SOMOS DOGMÁTICOS; es la realidad; son las relaciones sociales las que determinan y condicionan las categorías con las que las interpretamos, y no al revés.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60280"/>
            <a:ext cx="8604360" cy="862560"/>
          </a:xfrm>
          <a:prstGeom prst="rect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El </a:t>
            </a:r>
            <a:r>
              <a:rPr b="1" lang="es-CL" sz="2000" spc="-1" strike="noStrike">
                <a:solidFill>
                  <a:srgbClr val="ff0000"/>
                </a:solidFill>
                <a:latin typeface="Arial"/>
              </a:rPr>
              <a:t>Marxismo-Leninismo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 sigue vigente como Teoría Revoluciona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5445000"/>
            <a:ext cx="7993080" cy="703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NO SOMOS VOLUNTARISTAS,  ni actuamos sin los lineamientos ideológicos que nos orienten a ser certeros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55640" y="5950080"/>
            <a:ext cx="792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rot="20160000">
            <a:off x="250920" y="188640"/>
            <a:ext cx="342720" cy="32076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32400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spd="slow" advTm="11000">
    <p:cover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" dur="1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9640" y="259920"/>
            <a:ext cx="7920000" cy="626436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on el </a:t>
            </a:r>
            <a:r>
              <a:rPr b="1" i="1" lang="en-US" sz="2800" spc="-1" strike="noStrike">
                <a:solidFill>
                  <a:srgbClr val="cc0000"/>
                </a:solidFill>
                <a:latin typeface="Arial"/>
              </a:rPr>
              <a:t>PUEBLO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, como Fuerza Principal Político-Militar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reando </a:t>
            </a:r>
            <a:r>
              <a:rPr b="1" i="1" lang="en-US" sz="2400" spc="-1" strike="noStrike">
                <a:solidFill>
                  <a:srgbClr val="cc0000"/>
                </a:solidFill>
                <a:latin typeface="Arial"/>
              </a:rPr>
              <a:t>CONCIENCIA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Revolucionari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y con el </a:t>
            </a:r>
            <a:r>
              <a:rPr b="1" i="1" lang="en-US" sz="2400" spc="-1" strike="noStrike">
                <a:solidFill>
                  <a:srgbClr val="cc0000"/>
                </a:solidFill>
                <a:latin typeface="Arial"/>
              </a:rPr>
              <a:t>FUSIL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, como guía de la luch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histórica y consta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R LA RAZON Y LA FUERZA, LOS TRABAJADORES AL PO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ÓLO PODEMOS LA VÍA REVOLUCIONARI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BATE  O MUER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rot="20160000">
            <a:off x="179280" y="259920"/>
            <a:ext cx="343080" cy="32076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rot="20160000">
            <a:off x="7758000" y="5483160"/>
            <a:ext cx="1152720" cy="87948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9000">
    <p:cover dir="u"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9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2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20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20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20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2000"/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2000"/>
                                        <p:tgtEl>
                                          <p:spTgt spid="10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2000"/>
                                        <p:tgtEl>
                                          <p:spTgt spid="10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39640" y="259920"/>
            <a:ext cx="7920000" cy="6264360"/>
          </a:xfrm>
          <a:prstGeom prst="rect">
            <a:avLst/>
          </a:prstGeom>
          <a:blipFill rotWithShape="0">
            <a:blip r:embed="rId2"/>
            <a:stretch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Un fraternal Saludo Revolucionario a todos los combatientes del mund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A todos los Compañeros perseguido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A los Combatientes prisioneros de cuerpo, pero libres en dignid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A los que resisten la ofensiva imperialis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A los que no se detienen por mezquinos intereses particular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A todos los que pueden seguir de pie con la frente en alt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A los que siguen con justeza haciendo camino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20160000">
            <a:off x="179280" y="259920"/>
            <a:ext cx="343080" cy="32076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20160000">
            <a:off x="7758000" y="5483160"/>
            <a:ext cx="1152720" cy="87948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9000">
    <p:cover dir="u"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20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20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20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20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2000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2000"/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" dur="2000"/>
                                        <p:tgtEl>
                                          <p:spTgt spid="1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2000"/>
                                        <p:tgtEl>
                                          <p:spTgt spid="11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500"/>
                                        <p:tgtEl>
                                          <p:spTgt spid="11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826920" y="1052640"/>
          <a:ext cx="7115400" cy="510516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1052640"/>
                    <a:ext cx="7115400" cy="510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 advTm="13000">
    <p:cover dir="u"/>
  </p:transition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0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7" dur="1" fill="hold"/>
                                        <p:tgtEl>
                                          <p:spTgt spid="1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76" dur="2000" fill="hold"/>
                                        <p:tgtEl>
                                          <p:spTgt spid="11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4284720" y="1989000"/>
            <a:ext cx="2579760" cy="27352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 rot="20160000">
            <a:off x="395280" y="620280"/>
            <a:ext cx="495360" cy="39384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71360" y="-40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900000" y="404640"/>
            <a:ext cx="8244000" cy="825480"/>
          </a:xfrm>
          <a:prstGeom prst="rect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SIGUIENDO LAS HUELLAS DE NUESTROS </a:t>
            </a:r>
            <a:r>
              <a:rPr b="0" lang="es-CL" sz="2400" spc="-1" strike="noStrike">
                <a:solidFill>
                  <a:srgbClr val="ff0000"/>
                </a:solidFill>
                <a:latin typeface="Arial"/>
              </a:rPr>
              <a:t>PUEBLOS INDO-AMERICAN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2852640"/>
            <a:ext cx="3168720" cy="1923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Porque la primera batalla que se dio contra el capitalismo venido a nuestra América fue con toda la valentía, rebeldía y fuerz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476360" y="5589720"/>
            <a:ext cx="7488360" cy="703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Y porque  el grito de guerra dado hace más de 500 años, sigue vivo con la misma justeza que nuestra historia cono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189000"/>
            <a:ext cx="1042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1000">
    <p:cover dir="u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8" dur="2000" fill="hold"/>
                                        <p:tgtEl>
                                          <p:spTgt spid="5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3635280" y="2349360"/>
            <a:ext cx="1944720" cy="20876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 rot="20160000">
            <a:off x="395280" y="333000"/>
            <a:ext cx="343080" cy="32076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71360" y="-40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97680" y="763920"/>
            <a:ext cx="8103960" cy="459720"/>
          </a:xfrm>
          <a:prstGeom prst="rect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 una visión Estratégica de la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Lucha Latinoamericanis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2060640"/>
            <a:ext cx="2880000" cy="1191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r la continuidad del Ejército Libertador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91280" y="3645000"/>
            <a:ext cx="2952720" cy="1922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a  construir una sola fuerza, que golpee mas fuerte y duro, al enemigo invasor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619280" y="5791320"/>
            <a:ext cx="5905440" cy="1068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Y por la libertad de nuestra Indo-América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cover dir="u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" dur="250" autoRev="1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35" dur="250" autoRev="1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6" dur="250" autoRev="1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2500"/>
                            </p:stCondLst>
                            <p:childTnLst>
                              <p:par>
                                <p:cTn id="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3" dur="2000" fill="hold"/>
                                        <p:tgtEl>
                                          <p:spTgt spid="5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5076720" y="2060640"/>
          <a:ext cx="2160720" cy="2592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076720" y="2060640"/>
                    <a:ext cx="2160720" cy="259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"/>
          <p:cNvSpPr/>
          <p:nvPr/>
        </p:nvSpPr>
        <p:spPr>
          <a:xfrm rot="20160000">
            <a:off x="826920" y="549000"/>
            <a:ext cx="343080" cy="32076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71360" y="-40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187280" y="605160"/>
            <a:ext cx="6480360" cy="398880"/>
          </a:xfrm>
          <a:prstGeom prst="rect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Y POR EL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INTERNACIONALISMO PROLETARI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863640" y="5734080"/>
            <a:ext cx="8280360" cy="825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rque la lucha antiimperialista es una estrategia que no la sacrificamos por ningún paso táctico que la arriesg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cover dir="u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5" dur="2000" fill="hold"/>
                                        <p:tgtEl>
                                          <p:spTgt spid="6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2">
            <a:lum bright="18000"/>
          </a:blip>
          <a:stretch/>
        </p:blipFill>
        <p:spPr>
          <a:xfrm>
            <a:off x="4211640" y="1557360"/>
            <a:ext cx="1873080" cy="237636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 rot="20160000">
            <a:off x="539640" y="475920"/>
            <a:ext cx="343080" cy="32076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71360" y="-40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971640" y="247680"/>
            <a:ext cx="8093160" cy="825480"/>
          </a:xfrm>
          <a:prstGeom prst="rect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través, de la unificación de la lucha, y de la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oordinación de  las Vanguard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4797360"/>
            <a:ext cx="8424720" cy="1008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Y porque en nuestro país, al igual que la necesidad de los pueblos explotados y oprimidos del mundo, no puede quedar entregado a una guerra encubierta, sin la convicción que es posible revertir y venc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cover dir="u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1" dur="2000" fill="hold"/>
                                        <p:tgtEl>
                                          <p:spTgt spid="7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2050920" y="1341360"/>
            <a:ext cx="5473800" cy="58723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24276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4428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EJERCITO POPULAR REVOLUCIONARIO</a:t>
            </a:r>
            <a:endParaRPr b="0" lang="en-US" sz="2800" spc="1" strike="noStrike">
              <a:ln w="4428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76" name=""/>
          <p:cNvSpPr/>
          <p:nvPr/>
        </p:nvSpPr>
        <p:spPr>
          <a:xfrm rot="20160000">
            <a:off x="1763640" y="5013000"/>
            <a:ext cx="343080" cy="32076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1496400">
            <a:off x="7308360" y="5013360"/>
            <a:ext cx="343080" cy="34272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71360" y="-40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39640" y="333360"/>
            <a:ext cx="80647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Arial"/>
              </a:rPr>
              <a:t>Por  eso creemos que u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619280" y="6021360"/>
            <a:ext cx="72007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2800" spc="-1" strike="noStrike">
                <a:solidFill>
                  <a:srgbClr val="ffffff"/>
                </a:solidFill>
                <a:latin typeface="Arial"/>
              </a:rPr>
              <a:t>Es un imperativo Estratégico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cover dir="u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1" dur="250" autoRev="1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82" dur="250" autoRev="1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3" dur="250" autoRev="1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116000" y="-1251000"/>
            <a:ext cx="5829480" cy="50292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162888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4428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BATALLON  CHILE</a:t>
            </a:r>
            <a:endParaRPr b="0" lang="en-US" sz="2400" spc="1" strike="noStrike">
              <a:ln w="4428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82" name=""/>
          <p:cNvSpPr/>
          <p:nvPr/>
        </p:nvSpPr>
        <p:spPr>
          <a:xfrm rot="20160000">
            <a:off x="1116000" y="1341000"/>
            <a:ext cx="343080" cy="32076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rot="1496400">
            <a:off x="6803640" y="1052640"/>
            <a:ext cx="343080" cy="34272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71360" y="-40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556000" y="620640"/>
            <a:ext cx="30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Y u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4797360"/>
            <a:ext cx="8280360" cy="581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Nuestro desarrollo Táctico para la UN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cover dir="u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9" dur="250" autoRev="1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90" dur="250" autoRev="1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1" dur="250" autoRev="1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124000" y="1341360"/>
            <a:ext cx="3861000" cy="331164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419640" y="2708280"/>
            <a:ext cx="12967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MI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89" name=""/>
          <p:cNvSpPr/>
          <p:nvPr/>
        </p:nvSpPr>
        <p:spPr>
          <a:xfrm>
            <a:off x="171360" y="-40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971640" y="5300640"/>
            <a:ext cx="896436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CON TODAS LAS FUERZAS DE LA HISTORIA </a:t>
            </a:r>
            <a:r>
              <a:rPr b="1" lang="es-CL" sz="28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50920" y="476280"/>
            <a:ext cx="712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Arial"/>
              </a:rPr>
              <a:t>Por eso, SEGUIMOS ADELANT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7000">
    <p:cover dir="u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7" dur="2000" fill="hold"/>
                                        <p:tgtEl>
                                          <p:spTgt spid="8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1" dur="2000" fill="hold"/>
                                        <p:tgtEl>
                                          <p:spTgt spid="8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1116000" y="260280"/>
            <a:ext cx="6058080" cy="69534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24276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4428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EJERCITO POPULAR REVOLUCIONARIO</a:t>
            </a:r>
            <a:endParaRPr b="0" lang="en-US" sz="2800" spc="1" strike="noStrike">
              <a:ln w="4428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1258920" y="1628640"/>
            <a:ext cx="5829120" cy="50292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162888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4428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BATALLON  CHILE</a:t>
            </a:r>
            <a:endParaRPr b="0" lang="en-US" sz="2400" spc="1" strike="noStrike">
              <a:ln w="4428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94" name=""/>
          <p:cNvSpPr/>
          <p:nvPr/>
        </p:nvSpPr>
        <p:spPr>
          <a:xfrm>
            <a:off x="2627280" y="1916280"/>
            <a:ext cx="3429000" cy="274320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2268360" y="4437000"/>
            <a:ext cx="914400" cy="12574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>
            <a:lum bright="18000"/>
          </a:blip>
          <a:stretch/>
        </p:blipFill>
        <p:spPr>
          <a:xfrm>
            <a:off x="5435640" y="4005360"/>
            <a:ext cx="914400" cy="1239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7" name=""/>
          <p:cNvGraphicFramePr/>
          <p:nvPr/>
        </p:nvGraphicFramePr>
        <p:xfrm>
          <a:off x="3203640" y="549360"/>
          <a:ext cx="1800000" cy="1270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03640" y="549360"/>
                    <a:ext cx="1800000" cy="127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9" name=""/>
          <p:cNvGraphicFramePr/>
          <p:nvPr/>
        </p:nvGraphicFramePr>
        <p:xfrm>
          <a:off x="1908000" y="1557360"/>
          <a:ext cx="1028880" cy="1371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908000" y="1557360"/>
                    <a:ext cx="102888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1" name="" descr=""/>
          <p:cNvPicPr/>
          <p:nvPr/>
        </p:nvPicPr>
        <p:blipFill>
          <a:blip r:embed="rId7">
            <a:lum bright="6000"/>
          </a:blip>
          <a:stretch/>
        </p:blipFill>
        <p:spPr>
          <a:xfrm>
            <a:off x="5219640" y="1628640"/>
            <a:ext cx="1143000" cy="115596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 txBox="1"/>
          <p:nvPr/>
        </p:nvSpPr>
        <p:spPr>
          <a:xfrm>
            <a:off x="3708360" y="2997360"/>
            <a:ext cx="11430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MI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03" name=""/>
          <p:cNvSpPr/>
          <p:nvPr/>
        </p:nvSpPr>
        <p:spPr>
          <a:xfrm rot="20160000">
            <a:off x="971640" y="4581000"/>
            <a:ext cx="342720" cy="32076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rot="1496400">
            <a:off x="6948000" y="4508640"/>
            <a:ext cx="343080" cy="34272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71360" y="-40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cover dir="u"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1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3000"/>
                            </p:stCondLst>
                            <p:childTnLst>
                              <p:par>
                                <p:cTn id="11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0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4000"/>
                            </p:stCondLst>
                            <p:childTnLst>
                              <p:par>
                                <p:cTn id="12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5000"/>
                            </p:stCondLst>
                            <p:childTnLst>
                              <p:par>
                                <p:cTn id="12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7000"/>
                            </p:stCondLst>
                            <p:childTnLst>
                              <p:par>
                                <p:cTn id="13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9000"/>
                            </p:stCondLst>
                            <p:childTnLst>
                              <p:par>
                                <p:cTn id="13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10000"/>
                            </p:stCondLst>
                            <p:childTnLst>
                              <p:par>
                                <p:cTn id="14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11000"/>
                            </p:stCondLst>
                            <p:childTnLst>
                              <p:par>
                                <p:cTn id="14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12000"/>
                            </p:stCondLst>
                            <p:childTnLst>
                              <p:par>
                                <p:cTn id="15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12500"/>
                            </p:stCondLst>
                            <p:childTnLst>
                              <p:par>
                                <p:cTn id="159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0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4500"/>
                            </p:stCondLst>
                            <p:childTnLst>
                              <p:par>
                                <p:cTn id="16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3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23T21:12:37Z</dcterms:created>
  <dc:creator>wwww</dc:creator>
  <dc:description/>
  <dc:language>en-US</dc:language>
  <cp:lastModifiedBy>hh</cp:lastModifiedBy>
  <dcterms:modified xsi:type="dcterms:W3CDTF">2007-12-29T23:00:37Z</dcterms:modified>
  <cp:revision>20</cp:revision>
  <dc:subject/>
  <dc:title>Diapositiva 1</dc:title>
</cp:coreProperties>
</file>