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AAA8-828F-40AF-9F59-5A9568D4F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BC7E-EB66-4DEC-8435-A9B9A877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C118-2C92-4892-B4B8-DB090A68B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CFE7-56ED-4975-BD15-F786A1273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8C96-7E6C-4A76-9294-E1438FDB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6CDA-BEE4-447F-84CD-67772A9B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1D00-60B4-4CF2-BBF7-0F882B23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BE64-BD31-4264-834C-FCCF8A1E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D7A9-8284-43ED-8FDB-1B6F2746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A48C-E11D-4BE7-88B7-914FBB79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12CC-A566-4AC6-B7AE-63F33A3A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1F03-661B-416A-B560-4970CDEB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13CC-8F7A-41D5-B8B9-0052405E0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5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images.google.com.mx/imgres?imgurl=http://www.rfi.fr/actues/images/078/economia_salud_agua_botella180_wikipedia_20060626.jpg&amp;imgrefurl=http://www.rfi.fr/actues/articles/078/article_1379.asp&amp;h=244&amp;w=180&amp;sz=28&amp;hl=es&amp;start=22&amp;tbnid=NDNo5KPnG7rniM:&amp;tbnh=110&amp;tbnw=81&amp;prev=/images%3Fq%3Dagua%2Bsalud%26start%3D20%26ndsp%3D20%26svnum%3D10%26hl%3Des%26lr%3D%26sa%3DN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images.google.com.mx/imgres?imgurl=http://www.slowtheflow.com/images/toilet-about.jpg&amp;imgrefurl=http://www.slowtheflow.com/repairing-toilet-leaks.html&amp;h=228&amp;w=170&amp;sz=3&amp;hl=es&amp;start=2&amp;tbnid=zXQh_L5jyqabTM:&amp;tbnh=108&amp;tbnw=81&amp;prev=/images%3Fq%3Dtoilet%26svnum%3D10%26hl%3Des%26lr%3D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.mx/imgres?imgurl=http://www.excellent-income.net/envirolifebtls.jpg&amp;imgrefurl=http://www.excellent-income.net/productos-lifestyles.html&amp;h=192&amp;w=278&amp;sz=11&amp;hl=es&amp;start=19&amp;tbnid=YNxWi_EOtk1yFM:&amp;tbnh=79&amp;tbnw=114&amp;prev=/images%3Fq%3Dlimpiadores%26svnum%3D10%26hl%3Des%26lr%3D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www.colegiolaconcepcion.org/0203_1batb/images/tornillo_oxidado.jpg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.mx/imgres?imgurl=http://pinksunrise.com/mta/images/osteoprogression.gif&amp;imgrefurl=http://pinksunrise.com/mta/nelson.htm&amp;h=211&amp;w=216&amp;sz=6&amp;hl=es&amp;start=13&amp;tbnid=OlgHV7r951pjqM:&amp;tbnh=105&amp;tbnw=107&amp;prev=/images%3Fq%3Dosteoporosis%26svnum%3D10%26hl%3Des%26lr%3D%26sa%3D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835280" y="260280"/>
            <a:ext cx="5905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ff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arzan"/>
              </a:rPr>
              <a:t>¿Sabías que...</a:t>
            </a:r>
            <a:endParaRPr b="0" lang="en-US" sz="1800" spc="1" strike="noStrike">
              <a:ln w="9360">
                <a:solidFill>
                  <a:srgbClr val="ccff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arzan"/>
              <a:ea typeface="Tarzan"/>
            </a:endParaRPr>
          </a:p>
        </p:txBody>
      </p:sp>
      <p:sp>
        <p:nvSpPr>
          <p:cNvPr id="43" name=""/>
          <p:cNvSpPr/>
          <p:nvPr/>
        </p:nvSpPr>
        <p:spPr>
          <a:xfrm>
            <a:off x="4716360" y="1557360"/>
            <a:ext cx="442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...en el 37% de los estadounidenses el mecanismo de la sed es tan débil que frecuentemente lo confunden con hamb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59280" y="3429000"/>
            <a:ext cx="42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...la falta de agua es la causa  No. 1 de la fatiga diurn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32360" y="4508640"/>
            <a:ext cx="421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...según estudios de la Universidad de Washington, 1 vaso de agua calma el hambre en casi un 100% de los casos bajo dieta adelgazan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148360" y="5084640"/>
            <a:ext cx="1361880" cy="1368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203640" y="1989000"/>
            <a:ext cx="779400" cy="1365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8248680" y="1844640"/>
            <a:ext cx="895320" cy="154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32424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684360" y="4724280"/>
            <a:ext cx="208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Script MT Bold"/>
              </a:rPr>
              <a:t>Lee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</p:txBody>
      </p:sp>
      <p:sp>
        <p:nvSpPr>
          <p:cNvPr id="99" name=""/>
          <p:cNvSpPr/>
          <p:nvPr/>
        </p:nvSpPr>
        <p:spPr>
          <a:xfrm>
            <a:off x="3635280" y="476280"/>
            <a:ext cx="504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Y para aquellos que creen que el problema se resuelve tomando </a:t>
            </a:r>
            <a:r>
              <a:rPr b="1" lang="es-MX" sz="1800" spc="-1" strike="noStrike">
                <a:solidFill>
                  <a:srgbClr val="cc3300"/>
                </a:solidFill>
                <a:latin typeface="Arial"/>
              </a:rPr>
              <a:t>“coca light”</a:t>
            </a:r>
            <a:r>
              <a:rPr b="0" lang="es-MX" sz="18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les tenemos otra noticia: hay estudios que señalan que el consumo de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ustitutos de azúcar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o azúcar sintética en grandes cantidades, provoca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años cerebral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érdida de memori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nfusión mental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(según la AMEDEC). La sustancia que provoca estas afecciones se llama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spartamo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y sostienen que podría contribuir al desarrollo del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lzheimer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 Además, señalaron que los componentes químicos del "aspartamo" tienen otras consecuencias graves por un consumo excesivo, como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años a la retin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y al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istema nervioso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3564000" y="5013360"/>
            <a:ext cx="1933560" cy="1447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6227640" y="4494240"/>
            <a:ext cx="2665440" cy="2025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7885080" y="4565520"/>
            <a:ext cx="520560" cy="449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rot="7429800">
            <a:off x="8099640" y="3716640"/>
            <a:ext cx="1074600" cy="498600"/>
          </a:xfrm>
          <a:custGeom>
            <a:avLst/>
            <a:gdLst>
              <a:gd name="textAreaLeft" fmla="*/ 134280 w 1074600"/>
              <a:gd name="textAreaRight" fmla="*/ 940320 w 1074600"/>
              <a:gd name="textAreaTop" fmla="*/ 124560 h 498600"/>
              <a:gd name="textAreaBottom" fmla="*/ 374040 h 49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40720" y="4422600"/>
            <a:ext cx="792000" cy="719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88000" y="6508800"/>
            <a:ext cx="2160720" cy="3070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omic Sans MS"/>
              </a:rPr>
              <a:t>Se confió de la 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remove" presetClass="emph" presetID="3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5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5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3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3645000"/>
            <a:ext cx="9144000" cy="3213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1763640" y="404640"/>
            <a:ext cx="5545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University Roman LET"/>
              </a:rPr>
              <a:t>Ahora, la pregunta es: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University Roman LET"/>
              <a:ea typeface="University Roman LE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26920" y="1916280"/>
            <a:ext cx="7704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University Roman LET"/>
              </a:rPr>
              <a:t>¿Prefieres Agua o Coca-Cola?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University Roman LET"/>
              <a:ea typeface="University Roman LET"/>
            </a:endParaRPr>
          </a:p>
        </p:txBody>
      </p:sp>
      <p:sp>
        <p:nvSpPr>
          <p:cNvPr id="110" name=""/>
          <p:cNvSpPr/>
          <p:nvPr/>
        </p:nvSpPr>
        <p:spPr>
          <a:xfrm>
            <a:off x="1692360" y="587700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ffffff"/>
                </a:solidFill>
                <a:latin typeface="Comic Sans MS"/>
              </a:rPr>
              <a:t>Si quieres contribuir con la salud de otras personas, reenvíales este mens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843280" y="3243240"/>
            <a:ext cx="380988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788000" y="1413000"/>
            <a:ext cx="4105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...otros estudios científicos bien sustentados indican que ingerir de 8 a 10 vasos de agua al día podrían aliviar significativamente los dolores de espalda y de articulaciones en el 80% de las personas con estos padecimient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835280" y="260280"/>
            <a:ext cx="5905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ff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arzan"/>
              </a:rPr>
              <a:t>¿Sabías que...</a:t>
            </a:r>
            <a:endParaRPr b="0" lang="en-US" sz="1800" spc="1" strike="noStrike">
              <a:ln w="9360">
                <a:solidFill>
                  <a:srgbClr val="ccff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arzan"/>
              <a:ea typeface="Tarzan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4076640"/>
            <a:ext cx="424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...un descenso de tan solo el 2% de agua en el cuerpo puede causar pérdida momentánea de la memoria, dificultad con las matemáticas básicas y problemas de enfoque visual frente a la pantalla de la computadora o sobre una página impresa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932360" y="1484280"/>
            <a:ext cx="3887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66"/>
                </a:solidFill>
                <a:latin typeface="Arial"/>
              </a:rPr>
              <a:t>...beber por lo menos 5 vasos de agua al día disminuye en un 45% el riesgo de cáncer de colon, en un 79% el riesgo de cáncer de mama y en un 50% las posibilidades de desarrollar cáncer de vejig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32360" y="5141880"/>
            <a:ext cx="403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ddled"/>
              </a:rPr>
              <a:t>¿Estás tomando diariamente la debida cantidad de agua o has optado por sustituirla por refresc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835280" y="260280"/>
            <a:ext cx="5905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ff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arzan"/>
              </a:rPr>
              <a:t>¿Sabías que...</a:t>
            </a:r>
            <a:endParaRPr b="0" lang="en-US" sz="1800" spc="1" strike="noStrike">
              <a:ln w="9360">
                <a:solidFill>
                  <a:srgbClr val="ccff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arzan"/>
              <a:ea typeface="Tarzan"/>
            </a:endParaRPr>
          </a:p>
        </p:txBody>
      </p:sp>
      <p:pic>
        <p:nvPicPr>
          <p:cNvPr id="5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89720" y="3787920"/>
            <a:ext cx="901440" cy="1225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7174080" y="3787920"/>
            <a:ext cx="121428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492360" y="260280"/>
            <a:ext cx="5112000" cy="63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En muchos de los estados de USA, la patrulla de caminos mantiene siempre unos 10 litros de CocaCola para quitar la sangre que queda en las vías luego de un accidente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Si colocas un bistec dentro de un recipiente con CocaCola, el bistec se desintegrará en 48 hora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Para desmanchar el </a:t>
            </a:r>
            <a:r>
              <a:rPr b="1" lang="es-VE" sz="2000" spc="-1" strike="noStrike" u="sng">
                <a:solidFill>
                  <a:srgbClr val="003399"/>
                </a:solidFill>
                <a:uFillTx/>
                <a:latin typeface="Arial"/>
              </a:rPr>
              <a:t>excusado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, basta con vaciarle el contenido de una lata de CocaCola y dejarla en reposo por 30 minutos, luego le dejas correr el agua (El ácido cítrico de la CocaCola desmancha la porcelana)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Para remover el óxido en superficies cromadas, sólo debes frotarlas con un trozo de papel aluminio arrugado mojado con CocaCola y las manchas desaparecerá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2424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684360" y="4724280"/>
            <a:ext cx="208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Script MT Bold"/>
              </a:rPr>
              <a:t>Lee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</p:txBody>
      </p:sp>
      <p:pic>
        <p:nvPicPr>
          <p:cNvPr id="5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44000" y="3048120"/>
            <a:ext cx="77148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remove" presetClass="emph" presetID="3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635280" y="333360"/>
            <a:ext cx="5113440" cy="56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Para limpiar los terminales de la batería de tu auto, vierte sobre ellos un poco de CocaCola y las burbujas se llevarán la corrosió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Para aflojar un tornillo oxidado, aplica un trapo empapado con CocaCola por pocos minutos y el tornillo estará listo para salir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Para remover el óxido de tus herramientas, aplica el paso anterior y el óxido desaparecerá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Para desprender calcomanías, papel y hasta goma o silicón, adheridos a cualquier superficie de vidrio, aplica la misma operación anterior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También sirve para limpiar el parabrisas de tu auto cuando se ensucie en el cami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2424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684360" y="4724280"/>
            <a:ext cx="208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Script MT Bold"/>
              </a:rPr>
              <a:t>Lee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84280" y="2924280"/>
            <a:ext cx="1508040" cy="1282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85080" y="5950080"/>
            <a:ext cx="1085760" cy="752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88360" y="2708280"/>
            <a:ext cx="60336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remove" presetClass="emph" presetID="3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7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2424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492360" y="189000"/>
            <a:ext cx="54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cc3300"/>
                </a:solidFill>
                <a:latin typeface="Comic Sans MS"/>
              </a:rPr>
              <a:t>El ingrediente activo de la CocaCola es el </a:t>
            </a:r>
            <a:r>
              <a:rPr b="1" lang="es-VE" sz="2000" spc="-1" strike="noStrike">
                <a:solidFill>
                  <a:srgbClr val="cc3300"/>
                </a:solidFill>
                <a:latin typeface="Comic Sans MS"/>
              </a:rPr>
              <a:t>ACIDO FOSFORICO</a:t>
            </a:r>
            <a:r>
              <a:rPr b="0" lang="es-VE" sz="2000" spc="-1" strike="noStrike">
                <a:solidFill>
                  <a:srgbClr val="cc3300"/>
                </a:solidFill>
                <a:latin typeface="Comic Sans MS"/>
              </a:rPr>
              <a:t>, cuyo ph es 2.8, suficiente para disolver un clavo en 4 dí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126828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VE" sz="1800" spc="-1" strike="noStrike">
                <a:solidFill>
                  <a:srgbClr val="cc3300"/>
                </a:solidFill>
                <a:latin typeface="Comic Sans MS"/>
              </a:rPr>
              <a:t>El ácido fosfórico es altamente dañino para el calcio de los huesos y es uno de los grandes contribuyentes en el aumento de la </a:t>
            </a:r>
            <a:r>
              <a:rPr b="1" lang="es-VE" sz="1800" spc="-1" strike="noStrike">
                <a:solidFill>
                  <a:srgbClr val="cc3300"/>
                </a:solidFill>
                <a:latin typeface="Comic Sans MS"/>
              </a:rPr>
              <a:t>osteoporosis</a:t>
            </a:r>
            <a:r>
              <a:rPr b="1" lang="es-VE" sz="18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5118120"/>
            <a:ext cx="50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combinación de este ácido con azúcar refinada y fructuosa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ficulta la absorción de hierro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lo que puede generar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emi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y mayor facilidad para contraer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feccione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principalmente en niños, ancianos y mujeres embarazad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92360" y="3357720"/>
            <a:ext cx="54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tu cuerpo provoca desmineralización ósea, esto significa que no permite la adecuada absorción de calcio en el organismo, debilitando los huesos y por tanto incrementándose la posibilidad de tener fractura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4360" y="4724280"/>
            <a:ext cx="208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Rondalo"/>
              </a:rPr>
              <a:t>Ojo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Rondalo"/>
              <a:ea typeface="Rondalo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516720" y="2205000"/>
            <a:ext cx="1324080" cy="1076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2133720"/>
            <a:ext cx="129528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remove" presetClass="emph" presetID="3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2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2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6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2424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635280" y="4235400"/>
            <a:ext cx="50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ambién contiene un aditivo llamado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-150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este ha sido asociado con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eficiencia de vitamina B6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que es importante para la metabolización de las proteínas y la salud de la sangre, su carencia puede producir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nemi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epresión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nfusión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ntre otros síntomas, además de generar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hiperactividad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bajo nivel de glucos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n la sangre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92360" y="54936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a Coca Cola contiene también gas carbónico que, según la AMEDEC, es un ingrediente que provoca “adicción psicológica”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51280" y="1846440"/>
            <a:ext cx="504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tiene una sustancia ‘potencialmente adictiva’,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cafeín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que si se ingiere en cantidades elevadas (400 a 600 mg.) puede provocar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somnio, taquicardia, dolores de cabez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hast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taques de ansied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Una lata de Coca Cola contiene aproximadamente 50 mg. de cafeí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635280" y="191628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2376360" cy="17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2424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684360" y="4724280"/>
            <a:ext cx="208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Script MT Bold"/>
              </a:rPr>
              <a:t>Lee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</p:txBody>
      </p:sp>
      <p:sp>
        <p:nvSpPr>
          <p:cNvPr id="82" name=""/>
          <p:cNvSpPr/>
          <p:nvPr/>
        </p:nvSpPr>
        <p:spPr>
          <a:xfrm>
            <a:off x="3780000" y="404640"/>
            <a:ext cx="50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Y no solo eso, los azúcares que no logra digerir el organismo, se transforman en grasa, dando como posible consecuencia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obrepeso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 incluso problemas de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obesidad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067280" y="1700280"/>
            <a:ext cx="1788840" cy="1873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427640" y="5084640"/>
            <a:ext cx="1857240" cy="1619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6588000" y="4937040"/>
            <a:ext cx="2309760" cy="1731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635280" y="3789360"/>
            <a:ext cx="50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or si fuera poco, los azúcares que contiene el refresco, paulatinamente van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isolviendo el esmalte de los dient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ebilitándolo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y produciendo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ari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5940360" y="1700280"/>
            <a:ext cx="263376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remove" presetClass="emph" presetID="3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3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5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2424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684360" y="4724280"/>
            <a:ext cx="208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Script MT Bold"/>
              </a:rPr>
              <a:t>Lee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</p:txBody>
      </p:sp>
      <p:sp>
        <p:nvSpPr>
          <p:cNvPr id="90" name=""/>
          <p:cNvSpPr/>
          <p:nvPr/>
        </p:nvSpPr>
        <p:spPr>
          <a:xfrm>
            <a:off x="3708360" y="620640"/>
            <a:ext cx="50403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nteriormente la diabetes estaba asociada a pacientes adultos, pero últimamente se ha visto un aumento de casos de esta enfermedad en niños y adolescentes con exceso de pe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 diabetes es una enfermedad que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fecta principalmente los ojos, riñones, los pies y el coraz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219640" y="3500280"/>
            <a:ext cx="2519280" cy="2519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rot="19902600">
            <a:off x="4057560" y="5697360"/>
            <a:ext cx="1805040" cy="648000"/>
          </a:xfrm>
          <a:custGeom>
            <a:avLst/>
            <a:gdLst>
              <a:gd name="textAreaLeft" fmla="*/ 225360 w 1805040"/>
              <a:gd name="textAreaRight" fmla="*/ 1579680 w 1805040"/>
              <a:gd name="textAreaTop" fmla="*/ 162000 h 648000"/>
              <a:gd name="textAreaBottom" fmla="*/ 4860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20034600">
            <a:off x="4356000" y="587664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VENE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remove" presetClass="emph" presetID="3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4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4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4T23:26:34Z</dcterms:created>
  <dc:creator>LMDeS</dc:creator>
  <dc:description/>
  <dc:language>en-US</dc:language>
  <cp:lastModifiedBy>Pablo</cp:lastModifiedBy>
  <dcterms:modified xsi:type="dcterms:W3CDTF">2006-11-07T17:00:27Z</dcterms:modified>
  <cp:revision>14</cp:revision>
  <dc:subject>Salud</dc:subject>
  <dc:title>Agua, por favor</dc:title>
</cp:coreProperties>
</file>