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12B-D613-4C62-85EF-1F00CA47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C01-7326-47AF-8D03-F61B516C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1FF-F5F6-4AA7-BCDB-9BC853EF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949-CFC3-436E-96CC-5E04D457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293-0885-465B-8B8F-87B49EF5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E9B-E761-4CB4-A911-23358177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63F-92EC-4DC2-BB0A-DC5DC49D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277-7F09-4562-8D5D-91879D8F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82E-917C-423A-BB0E-C2B45763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AC4-1761-4A30-B39D-299460C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140-A267-4300-B4C8-6033478F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A33-E13A-477D-A03E-074DA23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6404-058E-4305-94A4-1E69AF76643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pezMurphy001revistatropasusa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5638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¿Quien pensaría de estas personas? limpi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ulcras, con familias, siendo unos bueno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sposos, excelentes padres, buenos amigo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iudadanos ejemplares en E U A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buso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inoiraq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dadospola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orturas" descr=""/>
          <p:cNvPicPr/>
          <p:nvPr/>
        </p:nvPicPr>
        <p:blipFill>
          <a:blip r:embed="rId1"/>
          <a:stretch/>
        </p:blipFill>
        <p:spPr>
          <a:xfrm>
            <a:off x="838080" y="6480"/>
            <a:ext cx="73152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ortura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orturas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orturas12" descr=""/>
          <p:cNvPicPr/>
          <p:nvPr/>
        </p:nvPicPr>
        <p:blipFill>
          <a:blip r:embed="rId1"/>
          <a:stretch/>
        </p:blipFill>
        <p:spPr>
          <a:xfrm>
            <a:off x="228600" y="90360"/>
            <a:ext cx="8915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ortur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orturas14" descr=""/>
          <p:cNvPicPr/>
          <p:nvPr/>
        </p:nvPicPr>
        <p:blipFill>
          <a:blip r:embed="rId1"/>
          <a:stretch/>
        </p:blipFill>
        <p:spPr>
          <a:xfrm>
            <a:off x="0" y="343080"/>
            <a:ext cx="4651200" cy="6172200"/>
          </a:xfrm>
          <a:prstGeom prst="rect">
            <a:avLst/>
          </a:prstGeom>
          <a:ln w="0">
            <a:noFill/>
          </a:ln>
        </p:spPr>
      </p:pic>
      <p:pic>
        <p:nvPicPr>
          <p:cNvPr id="65" name="torturas18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759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rturas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rturas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55627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siendo unos de los paises del primer mundo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una de las potencias mundiales mas podereros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eniendo en su país las Universisdades ma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restigiadas....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orturas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orturas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orturas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ortura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orturas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orturas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ortura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orturas6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orturas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orturas9" descr="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srest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2920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contando con la preparación intelectual que tienen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ontando con genios en las diferentes ramas Física, Química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Matemáticas, Astronomía, Medicína, etc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orturasDetenidos0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0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orturasDetenidos0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orturasDetenidos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rture10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ushpav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" y="34290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pero eso si despues de haber demostrado al mundo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entero y a los habitantes del Medio Oriente de 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su poderío, celebran el día de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"acción de gracias"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copi" descr=""/>
          <p:cNvPicPr/>
          <p:nvPr/>
        </p:nvPicPr>
        <p:blipFill>
          <a:blip r:embed="rId1"/>
          <a:stretch/>
        </p:blipFill>
        <p:spPr>
          <a:xfrm>
            <a:off x="609480" y="-19080"/>
            <a:ext cx="784872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38080" y="457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¿Gracias, gracias de que, de sus violacione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y abusos?....¿para que cuando lleguen a su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País, los vean como héroes?, 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22860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¿Para que cuando lleguen a sus casas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los vean como esposos, padres, amigos y 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vecinos ejemplares?....Aunque para mucha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gente ya se le olvidó, todo esto queda marcado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para la historia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5638680"/>
            <a:ext cx="7086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y eso depende de tí, que borres este e-mail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o lo compartas con tus contactos, para que n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mos cuenta de lo que es capaz el Ser Humano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n tal de demostrar ¡¡PODER!!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0463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5486400"/>
            <a:ext cx="857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lementos de sus fuezas armadas se hayan comportado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unas verdaderas bestias, como unos neandertales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etiendo un sin fin de abusos y violaciones a l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rechos civiles,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0441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571500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de los civiles y violando el tratado de Gibraltar;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las imagenes que veras son fuertes no aptas para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personas susceptibles...solo tu puedes ser el Juéz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nternacionales-20050130-0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torturas11" descr=""/>
          <p:cNvPicPr/>
          <p:nvPr/>
        </p:nvPicPr>
        <p:blipFill>
          <a:blip r:embed="rId2"/>
          <a:stretch/>
        </p:blipFill>
        <p:spPr>
          <a:xfrm>
            <a:off x="452916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inair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raque-Prisiomeiro%2520e%2520Pa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ijosdeSadd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46:02Z</dcterms:created>
  <dc:creator>SEP</dc:creator>
  <dc:description/>
  <dc:language>en-US</dc:language>
  <cp:lastModifiedBy>Reyna Soto</cp:lastModifiedBy>
  <dcterms:modified xsi:type="dcterms:W3CDTF">2006-03-03T21:42:54Z</dcterms:modified>
  <cp:revision>3</cp:revision>
  <dc:subject/>
  <dc:title>Presentación de PowerPoint</dc:title>
</cp:coreProperties>
</file>