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CAF7-1ED1-4F43-9B3F-22AEE964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B0D-C3E9-4001-AE61-A17EB0C9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F5C3-D9EC-47E0-A259-F547C0B5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1AB-BEEE-4B67-84B8-96C340FA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31589-3CF1-44F7-8F9A-8D35DC35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C1B6A-CF67-4732-80D4-745AF3B9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2BE71-4AF3-4593-B6D7-8F2BEF87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AD530-9F75-4F1B-8FAE-D71D8A78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1D110-1B1F-47C4-867C-C6433080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09555-609C-4411-B48B-180350C8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4E493-7075-4996-AC02-CA3700F6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CD8-7DB9-49DA-B59B-A253759C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CCC85-986A-442C-9F45-E3807FAB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3AB75-5926-43E0-974E-2ADD2A04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556C2-79F7-44BC-B4B6-D608E6F5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B08FE-8933-4251-8CB6-CD544B05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466CD-126F-4CF4-A064-2A9BC11A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AD9A9-D8C8-4743-A423-6A27A03F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27AAE-71DF-4EB4-B026-F346F68E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8AD2A-D62B-412C-942A-CD9E8FBA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7F215-A9D8-4247-88F3-6F01D28B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D23FD-A778-40C4-8ECF-393531DF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3192-2076-4916-8CB9-2215C7CC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464B6-3439-4E56-AF95-C4A88B81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DCCFD-7DE1-4978-8EC4-FB4A9C78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A6D1C-9A66-4C83-B4E0-254F4AE2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D18D1-BCA4-49F7-BDCE-6924122D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1298B-9646-494F-A8A8-21EBF490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5B5F3-3B4E-4E33-9EB3-201FC370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F8228-47FD-4B3F-9B8D-842E3D8F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8806DF-D017-42F8-B0FE-16C911D1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A8F580-BC59-453B-A242-7AD2F6F3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B60E6B-B1E3-4110-8E17-F75A0927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5C2-BC4F-4B5C-BFA7-E8728138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4235AE-6A2E-4831-894B-D995AF48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E0CC22-3FA5-400D-B6D1-C34588E1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20BADE-B30F-4337-AFAD-F8B786EE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46ADDC-BB0B-4233-989D-8F7DDEF3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B16682-33CF-4E57-98C0-94DDFA7F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F8DC21-9F49-478A-874D-22BAF3CB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CBD7D7-7606-492D-8D68-02255923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91CD31-5258-4385-8941-CED08CEF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BF3F25-ED65-4821-A50E-9F32F978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2B2D21-7AE7-490E-910B-30C3E6B8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41A-2986-415C-8FA2-62B36333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63134-2B7B-42A6-A25E-BC5E1F10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A6A42D-C77B-4D60-A278-82A36680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7BFB5-00A8-40FD-AADF-47729F15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831362-A95D-4F09-8E1A-532EA2BE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4D047-C649-42E3-90A7-3D8E1178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D61CDC-427F-4991-807B-C1DB6340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85D8CB-4554-4B2F-842E-39A768E0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E5CE36-7861-4A9E-9814-5C2A670E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4A170-8275-4731-BD9E-0F8AEE1C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0915F-9544-4A0F-AE9B-01F7B706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082-0EDC-4A6C-89C2-8193276E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2A2BB-94DA-4019-B2B7-ADF5A3E0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C96749-7DE5-4D8D-8F46-A6AFC88D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D45176-9D44-4713-8BB2-A4BE2A69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96478B-3089-4A33-9B37-F8EEC830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FB950D-23C6-4E2A-A2F4-AB683947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D41634-6F7F-40B4-889E-270A0488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E46AC4-FA36-4C4D-B7D0-D95B1801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9F52C3-A08F-47C3-8E0E-FD481FA0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DE2B96-2825-4B9F-83FD-CF1FAD2A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298BA7-5041-47CA-AB06-20407012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5E7-1EF5-41CD-BBB8-B5896CF8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541361-9928-48B8-963D-D9F62A23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F7CE22-73F8-4B90-BA97-B3F7BF8C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62739C-DE1B-4C97-A640-887D5692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D63-00BA-46A4-A9BE-A35FCF9D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D81D-45EC-413F-9372-CCC39118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97EC-C120-4967-B5BA-1776309E0C94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10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980A-6384-400F-ABBB-CB64773D79F4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B879-8E5A-4893-AE62-55AE60629BE0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5F34-2736-4543-9335-086300462467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28B8-11EB-480D-AFE4-3CE9A1B30CFD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F3D6-800E-4420-AD82-C721FD406B5D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8 Rectángulo" descr=""/>
          <p:cNvPicPr/>
          <p:nvPr/>
        </p:nvPicPr>
        <p:blipFill>
          <a:blip r:embed="rId1"/>
          <a:stretch/>
        </p:blipFill>
        <p:spPr>
          <a:xfrm>
            <a:off x="-201600" y="-6480"/>
            <a:ext cx="9547200" cy="741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02:19:56Z</dcterms:created>
  <dc:creator>WinuE</dc:creator>
  <dc:description/>
  <dc:language>en-US</dc:language>
  <cp:lastModifiedBy>WinuE</cp:lastModifiedBy>
  <dcterms:modified xsi:type="dcterms:W3CDTF">2008-05-23T03:47:22Z</dcterms:modified>
  <cp:revision>3</cp:revision>
  <dc:subject/>
  <dc:title>Diapositiva 1</dc:title>
</cp:coreProperties>
</file>