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ClasicaBeethovenSonataClarodeLuna.wav" ContentType="audio/x-wav"/>
  <Override PartName="/ppt/media/image9.jpeg" ContentType="image/jpeg"/>
  <Override PartName="/ppt/media/image11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7E1-CB28-48F5-8A9B-5BC5F6E5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D05-DEC2-4250-91AE-E32AF9D7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8F8-5982-418F-9611-473F0C35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D56-1DBB-4EBC-BA14-11BC93ED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B6DF-7D3A-4837-8C49-7695EBF4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BE2F-F2FB-4768-A5F7-7BB4541B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F8E5-1C8F-4A8B-9901-44569977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A315-E93A-4CDB-BDDF-A04333E1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39CB-118E-4A18-81A9-814E2860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7C3D-C4B3-4039-B585-8136987C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959F-0C20-4B6B-A663-B991B061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07A-4BA2-438E-B0BE-EB249940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E924-AAC6-4E55-88E3-8A49E304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2111-26A4-48E8-907D-7E2ED3AA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5315-431B-4F05-9CEE-7D3CFEEC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756E-789E-430C-AB69-D735840F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529E-B60F-4D6B-B044-D9D4F0AF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D33-06E9-458E-B6CE-44CEFCE1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7CA-5268-4197-84D0-C5B1B481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9D4-6E83-42E8-B5FF-63273C15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80C-1A3E-4468-B07C-8652FE32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316F-129A-4045-8136-A96B34B8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5C7-1DEE-4783-A4E1-7A3933C1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D7F-2117-47BC-9982-A196C843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B8AB-43CB-4CF0-8F02-921004DB3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FF8D-88A2-44A7-BD53-CE5A812CA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file:///tmp/home/.config/libreoffice/4/user/gallery/ClasicaBeethovenSonataClarodeLuna.wav" TargetMode="External"/><Relationship Id="rId4" Type="http://schemas.microsoft.com/office/2007/relationships/media" Target="file:///tmp/home/.config/libreoffice/4/user/gallery/ClasicaBeethovenSonataClarodeLuna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lasicaBeethovenSonataClarodeLun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62320" y="5335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"13 LÍNEAS PARA VIVIR"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2944800"/>
            <a:ext cx="7697520" cy="347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  <p:sndAc>
      <p:stSnd>
        <p:snd r:embed="rId6" name="ClasicaBeethovenSonataClarodeLun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7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33526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80880"/>
            <a:ext cx="4038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Quizá Dios quiera que conozcas mucha gente equivocada  antes de que conozcas a la persona adecuada, para que cuando al fin la conozcas , sepas estar agradec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14248" t="12758" r="14248" b="12796"/>
          <a:stretch/>
        </p:blipFill>
        <p:spPr>
          <a:xfrm>
            <a:off x="457200" y="457200"/>
            <a:ext cx="4062240" cy="5257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791320" y="1523880"/>
            <a:ext cx="304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No llores porque ya se </a:t>
            </a:r>
            <a:r>
              <a:rPr b="0" lang="es-MX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terminó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, sonríe porque sucedió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7146" t="14234" r="17405" b="14587"/>
          <a:stretch/>
        </p:blipFill>
        <p:spPr>
          <a:xfrm>
            <a:off x="228600" y="685800"/>
            <a:ext cx="5715000" cy="4989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41911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335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Siempre habrá gente que te lastime, así que lo que tienes que hacer es seguir confiando y solo ser mas cuidadoso en quien confías dos vec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2819520" cy="2703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00600" y="380880"/>
            <a:ext cx="403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Conviértete en una mejor persona y asegúrate de saber quien eres antes de conocer a alguien más y  esperar que esa  persona sepa quien e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260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852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192560" cy="5715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800600" y="5335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No te esfuerces tanto, las mejores cosas suceden cuando menos te las esperas.</a:t>
            </a:r>
            <a:r>
              <a:rPr b="0" lang="es-ES" sz="3600" spc="-1" strike="noStrike">
                <a:solidFill>
                  <a:srgbClr val="ffffff"/>
                </a:solidFill>
                <a:latin typeface="Cooper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0759" t="53801" r="8625" b="0"/>
          <a:stretch/>
        </p:blipFill>
        <p:spPr>
          <a:xfrm>
            <a:off x="6400800" y="5181480"/>
            <a:ext cx="2286000" cy="919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10263" t="13926" r="10263" b="13926"/>
          <a:stretch/>
        </p:blipFill>
        <p:spPr>
          <a:xfrm>
            <a:off x="338040" y="304920"/>
            <a:ext cx="4233960" cy="5410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097000"/>
            <a:ext cx="845820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oper Black"/>
                <a:ea typeface="Times New Roman"/>
              </a:rPr>
              <a:t>   </a:t>
            </a:r>
            <a:r>
              <a:rPr b="0" lang="es-ES" sz="3200" spc="-1" strike="noStrike">
                <a:solidFill>
                  <a:srgbClr val="ffff99"/>
                </a:solidFill>
                <a:latin typeface="Verdana"/>
                <a:ea typeface="Times New Roman"/>
              </a:rPr>
              <a:t>Envíalo a las personas que por alguna razón son tus amigos,  aunque no los veas siempre, aunque no les hables siempre.. pues recuer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"TODO LO QUE SUCEDE, SUCEDE POR UNA RAZÓN"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398080" cy="8301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28600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e quiero no por quien eres, sino por quien soy cuando estoy conti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343400" y="1143000"/>
            <a:ext cx="3916440" cy="4906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19051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Ninguna persona merece tus l</a:t>
            </a:r>
            <a:r>
              <a:rPr b="0" lang="es-MX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á</a:t>
            </a: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grimas, y quien se las merezca no te hará llor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2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8124" t="8460" r="8550" b="5257"/>
          <a:stretch/>
        </p:blipFill>
        <p:spPr>
          <a:xfrm>
            <a:off x="4724280" y="685800"/>
            <a:ext cx="3981600" cy="4952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05520" y="609480"/>
            <a:ext cx="327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Sólo porque alguien no te ame como tu quieres,</a:t>
            </a:r>
            <a:r>
              <a:rPr b="0" lang="en-U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no significa que no te ame con todo su s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2574" t="6772" r="11968" b="15405"/>
          <a:stretch/>
        </p:blipFill>
        <p:spPr>
          <a:xfrm>
            <a:off x="380880" y="457200"/>
            <a:ext cx="4413240" cy="5638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1139760"/>
            <a:ext cx="365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cc"/>
                </a:solidFill>
                <a:latin typeface="Verdana"/>
                <a:ea typeface="Times New Roman"/>
              </a:rPr>
              <a:t>Un verdadero amigo es quien te toma de la mano y te toca el coraz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" y="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3520" y="17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72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157640" cy="6400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33920" y="13716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990720"/>
            <a:ext cx="403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La peor forma de extrañar a alguien es estar sentado a su lado y saber que nunca lo podrás te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7600" y="9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10273" t="15491" r="10320" b="17056"/>
          <a:stretch/>
        </p:blipFill>
        <p:spPr>
          <a:xfrm>
            <a:off x="4572000" y="685800"/>
            <a:ext cx="4444920" cy="5029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14300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Nunca dejes de sonreír, ni siquiera cuando estés triste porque nunca sabes quien se puede enamorar de tu sonris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6680" y="9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8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4698" t="3386" r="3766" b="15405"/>
          <a:stretch/>
        </p:blipFill>
        <p:spPr>
          <a:xfrm>
            <a:off x="4572000" y="685800"/>
            <a:ext cx="4457880" cy="5486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5280" y="41911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762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Puedes ser solamente una persona para el mundo, pero para alguna persona tu eres el mun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736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78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9076" t="6772" r="7045" b="6945"/>
          <a:stretch/>
        </p:blipFill>
        <p:spPr>
          <a:xfrm>
            <a:off x="4572000" y="380880"/>
            <a:ext cx="4311720" cy="5943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676520"/>
            <a:ext cx="35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No pases el tiempo con alguien que no </a:t>
            </a:r>
            <a:r>
              <a:rPr b="0" lang="es-MX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esté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dispuesto a  pasarlo contigo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3836880" cy="6248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8:10:40Z</dcterms:created>
  <dc:creator/>
  <dc:description/>
  <dc:language>en-US</dc:language>
  <cp:lastModifiedBy>Eve Gisela Dib Chagra</cp:lastModifiedBy>
  <dcterms:modified xsi:type="dcterms:W3CDTF">2004-09-26T21:40:06Z</dcterms:modified>
  <cp:revision>53</cp:revision>
  <dc:subject>13 Líneas para vivir.</dc:subject>
  <dc:title>Presentación de PowerPoint</dc:title>
</cp:coreProperties>
</file>