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2825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088-37E2-4C44-8F15-60967B70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3C0-F434-4F7B-A59F-341159E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EA5-505D-4EDC-A6AF-6BC3AFBB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45C-4359-4F75-BA34-6858DA8E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6AF-05E2-4F51-BCD6-C4884518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4E9-2901-4DD7-9B26-62B52FCC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6C7-E375-4AAE-ACD6-A3BEA5AF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79E-84FB-46F0-B8E4-9B43CFFD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109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BA4-6226-4ACE-95BB-DA3A2B60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AF2-17AF-4740-A984-FFA7550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895-81CE-479C-9D49-447A5B1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F51-C91F-4947-8EFA-D93FEB0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6360"/>
            <a:ext cx="206352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6360"/>
            <a:ext cx="313704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5600" y="6246360"/>
            <a:ext cx="206388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F86371D8-836E-400E-ADA7-3545CAFF4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416800" cy="71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Bank and Trust Company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Trust Company (Cayman)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SATIONAL CHART as of Nov 1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4120" y="3048120"/>
          <a:ext cx="829152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3048120"/>
                    <a:ext cx="829152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90440" y="857160"/>
            <a:ext cx="15858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L. Lowell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8920" y="857160"/>
            <a:ext cx="1586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xecutive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89320" y="857160"/>
            <a:ext cx="15876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les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67360" y="785880"/>
            <a:ext cx="1333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Trus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Humphre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3160" y="785880"/>
            <a:ext cx="1968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Private Label Funds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0480" y="6000840"/>
            <a:ext cx="374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 A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# B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@ Member Local Managemen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8920" y="2428920"/>
            <a:ext cx="14590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TRA-AL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1440" y="2428920"/>
            <a:ext cx="139680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Spinn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7440" y="2428920"/>
            <a:ext cx="12682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PR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27880" y="6286680"/>
            <a:ext cx="15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d Count: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4:30:21Z</dcterms:created>
  <dc:creator>J.B.B.T</dc:creator>
  <dc:description/>
  <dc:language>en-US</dc:language>
  <cp:lastModifiedBy>Rudolf</cp:lastModifiedBy>
  <cp:lastPrinted>2000-10-27T14:38:22Z</cp:lastPrinted>
  <dcterms:modified xsi:type="dcterms:W3CDTF">2004-01-28T20:47:55Z</dcterms:modified>
  <cp:revision>4</cp:revision>
  <dc:subject/>
  <dc:title>Julius Baer Bank and Trust Company Ltd. Julius Baer Trust Company (Cayman) Ltd. ORGANISATIONAL CHART as of Oct 1, 2000</dc:title>
</cp:coreProperties>
</file>